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D2D9-AF61-4DB8-B6E7-3A38C8AC380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8C1B-19B0-4ED2-ABDA-F147667CF0C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1107-C986-4740-BECA-49426089D47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0E9D-7F47-408E-96EA-F513A12E5A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8B1-7338-4AA6-BD71-4CBD475AF71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E2DC-876B-40E7-A9CE-D461D22F65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2BAE-54D0-4A0C-A5B1-46F38030BCE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E63C-1FDE-49AF-B803-24A077A338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54AA-E14D-4840-A927-84E51E72EF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D0FB-1FE5-4BDC-83EF-9AF2AE0D396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3E31-0257-4A68-B601-86F39BF22FD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BE1F-EC96-48AA-8CDE-CE19F760A4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CB92-E1F7-48DB-87DA-C348CA3DBF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EEB3-7DD0-439C-8AD5-218477AE178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E3C7-8D96-402A-B40B-B77921D276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AAE7-9DBD-441E-93CC-B8D9FCE49AB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DD71-78DD-4A92-95AD-3534AB3A6F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C5B5-EE21-4C4E-B770-CD71F30A41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6525-2F8F-4B5F-9DB3-0A39C8283AB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F406-311B-4997-9F3A-E0B25C11A7D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25C9-3B0E-4C25-BA82-33F771886CC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F603-8CA0-4D33-BCC6-A2F32A02B3F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45CD-68FB-468F-8237-6F5EE78D79C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EECF-387D-4A9E-889D-9E57AEC675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BEAD-D86A-4985-BEAE-D03C9A55AD3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A342-CD33-418F-ACBD-8C54F6B151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C0A9-227A-435E-A448-DF0F9DAC16B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7CE5-3BF5-4900-AABC-2875C508162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BE29-38D0-4494-9CBA-3B413B6967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5C11-A482-432D-AD97-191264671C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5552-87A2-45A2-B3EB-A6FFB593AEC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3A3C-E924-47C6-B126-4D59E7E1D73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5A02-4A33-4783-88A9-C6BF8E5801B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9082-E94C-4442-893E-F8755BFAF6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E282-5A8A-4589-92AD-F068149C450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63B3-1939-47F1-AEA6-CE47EC7D7FF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939D-7758-4751-81D0-ECCEF9AA8C0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9A4B-072C-47BF-9D93-EB2BBC986F9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7222-E3BD-4C62-A2DA-1902D4FBBC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E784-2EBD-41A7-BE59-54EF430DCF2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967F-9703-4E57-91A3-65C3E666FE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5061-35C2-435A-9EB3-22C8F459B4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C9B2-AD84-47EF-867B-259A11979E4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E859-BC06-479A-82B9-0D5C12314AA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C709-1801-4D52-AEFD-11546D4B39B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4A2E-2905-440A-A65B-AD5BF13600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73E2-C292-4882-8848-0B38ACFA189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4CB7-B54C-4126-A64F-A16A57C4457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15AF-AD64-4827-8F6F-EDFF96CD869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F078-A36D-49FF-A07B-1AC9FF283A5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E035-1A85-4998-83EC-6F219D0FE41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6FB2-6E4D-417E-96C7-584AA4E9A7D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A2D5-51C4-43C1-A0F6-FE1FAB170E0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F889-A03F-49DA-BA57-ADB202E080F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CEE0-2B5D-4E8F-84FE-13A2DAA0224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56F7-EC1D-4704-8ADE-0F0774229B2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44C4-398C-4E73-A4AF-073EB51EF47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7E2E-19B9-48FA-84F6-D1AF6CE84F7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E283-E394-4144-AA53-6A72B298F10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CE73-3B25-47C8-98F3-B795E391361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6E3F-2BAA-40CA-9715-5F5D24A0524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3785-B4EB-4B5D-AB31-157C7E3297C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980C-9427-43B4-B3A5-D7260C02FF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8D3E-BE2D-4450-B2DE-68B99BDCED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2887-A963-4EED-833B-8A182E2DA16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8614-9830-4B84-8124-3679EA8949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F566-50F0-4057-A294-10C5ED84EE7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E3A7-AEF2-48D4-8EDF-E5AC1AD4FA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DD64-BE49-41A2-8F91-BA42313876E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A0EE-F35B-417A-A83F-14B3ED620E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6E99-8B0C-4C39-A2F8-07785886B2E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D60A-2CB1-49F5-83B8-091CE7463E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3BF3-51C7-46C2-81BD-75DF18E809A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DBF2-57C0-4055-8773-9E1F86D63BB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6D86-CE21-498F-A25B-2627579A6AB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BAC8-4E9A-41B2-81D5-FAFA765CB96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30EA-5DBA-4A0C-BDB5-5D96313AC21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2C4D-FD84-4A73-A77C-82FC277A7B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D693-06A4-40CD-B0A8-A0A9DFE1BF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89DA-1720-4FA4-B473-CB18FA3288D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4FBC-04DB-4203-9085-9E1D7B5931D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7DF9-2886-40A5-B079-85B1421B89E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5AB9-CB67-48F5-99C3-1FC1B54F0A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383F-A81B-4C09-9A15-6EC50B7945F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4DCE-8BCF-4962-B0BD-5C317A5E4FA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3FE8-6240-4C2D-91F9-2D59F13CC96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DD8B-F1CD-4008-977C-8EBABE9F0B4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3B73-E587-48B9-A669-1C4F99264BC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E673-998B-4F90-A36A-CB65C510D0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3DDD-0AB0-4D66-982D-E7A5724B68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CE4A-02CD-461E-AB03-1A3EEC481F7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96F8-D823-40F4-8F5C-70CB8EC369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BA13-E8E9-418D-B154-2C1DE554164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ABB1-442C-42BE-9A13-37B4851BF91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8C23-3470-453F-81DB-901B5E26C92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9695-1E80-409E-92E7-3621D7F17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0583-DDD5-432A-9B86-600AA8948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031C-BEF2-4FB8-8081-FF4B9CE0F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5107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9314-292C-4255-8544-948E19994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5920-95CA-4390-872C-73E8D42C63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9B04-FC2A-4071-8603-B6EDAE901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30D6-0289-46D5-82E9-4B998FCE1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2893-EB28-458B-8D3B-FD7178A5D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7583-6C03-4A03-B70B-DFA479F40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78F3-F71F-4607-B794-CFC6D6C55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5107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9B97-3981-4DFA-8D3E-18A99E678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107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450B-A896-457A-A018-A470F00EC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BA90-A786-469A-BCE0-DF2EE6CA5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42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3 The Pennsylvania State Universit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55560" y="500040"/>
            <a:ext cx="7832880" cy="5857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684360" y="6273720"/>
            <a:ext cx="802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ución: Prof. Amilcar A. Rincón Charris -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 American University of Puerto Rico - Bayamon Campus 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PR" sz="1200" spc="-1" strike="noStrike">
                <a:solidFill>
                  <a:srgbClr val="000000"/>
                </a:solidFill>
                <a:latin typeface="Arial"/>
              </a:rPr>
              <a:t>Prof. Rogerio Furlan – University of Puerto Rico at Humaca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acto de la Contaminación en el Rendimiento de Produccí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mpacto de la contaminación es una función del tamaño del nanoproducto y el tamaño, tipo y concentración del conta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"/>
          <p:cNvSpPr/>
          <p:nvPr/>
        </p:nvSpPr>
        <p:spPr>
          <a:xfrm>
            <a:off x="609840" y="4114800"/>
            <a:ext cx="20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de Product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ctuosos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363120" y="4114800"/>
            <a:ext cx="216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de Product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ctuosos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6487560" y="4114800"/>
            <a:ext cx="231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de Product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ctuosos = 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3"/>
          <p:cNvGrpSpPr/>
          <p:nvPr/>
        </p:nvGrpSpPr>
        <p:grpSpPr>
          <a:xfrm>
            <a:off x="2126880" y="4892760"/>
            <a:ext cx="3736440" cy="703800"/>
            <a:chOff x="2126880" y="4892760"/>
            <a:chExt cx="3736440" cy="703800"/>
          </a:xfrm>
        </p:grpSpPr>
        <p:sp>
          <p:nvSpPr>
            <p:cNvPr id="70" name="Rectangle 14"/>
            <p:cNvSpPr/>
            <p:nvPr/>
          </p:nvSpPr>
          <p:spPr>
            <a:xfrm>
              <a:off x="2126880" y="502920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dimiento=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6"/>
            <p:cNvSpPr/>
            <p:nvPr/>
          </p:nvSpPr>
          <p:spPr>
            <a:xfrm>
              <a:off x="3583440" y="4892760"/>
              <a:ext cx="650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64-8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6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7"/>
            <p:cNvSpPr/>
            <p:nvPr/>
          </p:nvSpPr>
          <p:spPr>
            <a:xfrm>
              <a:off x="4175280" y="5105520"/>
              <a:ext cx="168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 100 = 87.5%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4"/>
          <p:cNvGrpSpPr/>
          <p:nvPr/>
        </p:nvGrpSpPr>
        <p:grpSpPr>
          <a:xfrm>
            <a:off x="5071680" y="5197320"/>
            <a:ext cx="4067640" cy="703800"/>
            <a:chOff x="5071680" y="5197320"/>
            <a:chExt cx="4067640" cy="703800"/>
          </a:xfrm>
        </p:grpSpPr>
        <p:sp>
          <p:nvSpPr>
            <p:cNvPr id="74" name="Rectangle 15"/>
            <p:cNvSpPr/>
            <p:nvPr/>
          </p:nvSpPr>
          <p:spPr>
            <a:xfrm>
              <a:off x="5071680" y="5333760"/>
              <a:ext cx="17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ndimiento =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8"/>
            <p:cNvSpPr/>
            <p:nvPr/>
          </p:nvSpPr>
          <p:spPr>
            <a:xfrm>
              <a:off x="6631200" y="5197320"/>
              <a:ext cx="90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256-2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25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9"/>
            <p:cNvSpPr/>
            <p:nvPr/>
          </p:nvSpPr>
          <p:spPr>
            <a:xfrm>
              <a:off x="7323480" y="5410080"/>
              <a:ext cx="18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 100 = 92.19%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ecto del Tamaño del Defecto versus Tamaño del Nano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2700360" y="5899320"/>
            <a:ext cx="56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te ejemplo, se mantuvo constante el tamaño del defecto y se cambió el tamaño del nanoproduct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"/>
          <p:cNvPicPr/>
          <p:nvPr/>
        </p:nvPicPr>
        <p:blipFill>
          <a:blip r:embed="rId1"/>
          <a:stretch/>
        </p:blipFill>
        <p:spPr>
          <a:xfrm>
            <a:off x="601560" y="1600200"/>
            <a:ext cx="7942320" cy="2486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152280" y="5181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9528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es Contaminació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e9c"/>
                </a:solidFill>
                <a:latin typeface="Arial"/>
              </a:rPr>
              <a:t>Tipos de </a:t>
            </a:r>
            <a:r>
              <a:rPr b="0" lang="es-ES" sz="2400" spc="-1" strike="noStrike">
                <a:solidFill>
                  <a:srgbClr val="084e9c"/>
                </a:solidFill>
                <a:latin typeface="Arial"/>
              </a:rPr>
              <a:t>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y su Pre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ción de 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pos of Contam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nálisis se divide la contaminación en las siguientes categor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í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é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s contaminantes pueden incrementar cuando se realiza fabricación en la nano esc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í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objetos pequeños que pueden adherirse a materiales y es la forma más común de conta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ículas en suspensión en el aire, como perfume, son una clase especial de partículas conocidas com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eroso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artículas poseen una variación amplia de tam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maño Relativo de Partícul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1981080" y="487692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µm – Apenas Visible a Simple Vis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152280" y="1295280"/>
            <a:ext cx="8534520" cy="5257800"/>
            <a:chOff x="152280" y="1295280"/>
            <a:chExt cx="8534520" cy="5257800"/>
          </a:xfrm>
        </p:grpSpPr>
        <p:sp>
          <p:nvSpPr>
            <p:cNvPr id="90" name="Straight Connector 21"/>
            <p:cNvSpPr/>
            <p:nvPr/>
          </p:nvSpPr>
          <p:spPr>
            <a:xfrm>
              <a:off x="5257800" y="5029200"/>
              <a:ext cx="34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495000" y="1295280"/>
              <a:ext cx="6743880" cy="5257800"/>
              <a:chOff x="495000" y="1295280"/>
              <a:chExt cx="6743880" cy="5257800"/>
            </a:xfrm>
          </p:grpSpPr>
          <p:sp>
            <p:nvSpPr>
              <p:cNvPr id="92" name="TextBox 5"/>
              <p:cNvSpPr/>
              <p:nvPr/>
            </p:nvSpPr>
            <p:spPr>
              <a:xfrm>
                <a:off x="1904760" y="1295280"/>
                <a:ext cx="2743200" cy="47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léculas de Ga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iru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umo de Tabac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acteria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eblin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óbulo Rojo (adulto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lvo de Harina, polen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abello Human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rena de Play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Box 6"/>
              <p:cNvSpPr/>
              <p:nvPr/>
            </p:nvSpPr>
            <p:spPr>
              <a:xfrm>
                <a:off x="4647960" y="1295280"/>
                <a:ext cx="2590920" cy="47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.1 - 1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– 100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 – 300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.2 – 10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 – 50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.5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 – 50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0 – 120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0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µm and up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495000" y="1447560"/>
                <a:ext cx="799920" cy="510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Straight Connector 23"/>
            <p:cNvSpPr/>
            <p:nvPr/>
          </p:nvSpPr>
          <p:spPr>
            <a:xfrm flipH="1" flipV="1">
              <a:off x="152280" y="502920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1"/>
          <p:cNvSpPr/>
          <p:nvPr/>
        </p:nvSpPr>
        <p:spPr>
          <a:xfrm>
            <a:off x="2654280" y="6248520"/>
            <a:ext cx="34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maño Relativo de Partí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4"/>
          <p:cNvCxnSpPr/>
          <p:nvPr/>
        </p:nvCxnSpPr>
        <p:spPr>
          <a:xfrm>
            <a:off x="5257440" y="3962520"/>
            <a:ext cx="205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Straight Arrow Connector 5"/>
          <p:cNvCxnSpPr/>
          <p:nvPr/>
        </p:nvCxnSpPr>
        <p:spPr>
          <a:xfrm flipH="1" flipV="1">
            <a:off x="1752120" y="3962160"/>
            <a:ext cx="205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7"/>
          <p:cNvSpPr/>
          <p:nvPr/>
        </p:nvSpPr>
        <p:spPr>
          <a:xfrm>
            <a:off x="373392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ello Human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≈100 µm 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1676520" y="1523880"/>
            <a:ext cx="5715000" cy="51055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2819520" y="5029200"/>
            <a:ext cx="610920" cy="51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3048120" y="2590920"/>
            <a:ext cx="95040" cy="8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3519000" y="510552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ícula ≈10 µm Di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3214080" y="243828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ícula ≈0.5 µm Di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Móvil Iónica (CMI) puede contribuir a corrosión y alterar características eléctricas, cambiar el desempeño y factores de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I comunes son el Grupo I de iones de la tabla perió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aminación Móvil Ión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tomos en forma i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ólo una pequeña concentración de CMI,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tomos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menos, son necesarios para causar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referencia, átomos superficiales tienen una  densidad de cerca de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átomos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,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átomos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sólo 1 contaminante por 10,000 áto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su nombre lo implica, CMI tienen gran mo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Is pueden moverse a través de un nanoproducto electrónico aún luego de haber pasado por pruebas eléctricas y luego de ser enviado, causando fallas durante su op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del Grupo I como sodio, potasio y litio son muy comunes como C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urezas Metálicas Típicas que pueden Contaminar Algunos Nanoproductos, pero son Esenciales 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stemas Bio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8288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es Pes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erro (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bre (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io (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mo (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gsteno 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anio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76920" y="236232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es Alcalinos (encontrados en el  Grupo IA, muy reac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dio (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tasio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tio (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44460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dad 4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idados de Procesamiento General, Contaminación y Dañ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ferencia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idados de Procesamiento General, Contaminación y Dañ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aminación Atómica, Molecular, de Película Delgada, y Resid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provenir del kkquímicos, incluyendo agua DI (de-ioniza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provenir de reacciones quí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provenir del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provenir de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éculas Orgán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ánico se refiere a cualquier compuesto que contenga carbo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minantes orgánicos incluyen moléculas, películas delgadas y residuos que quedan del procesamiento o por expos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minantes orgánicos típicos incluyen bacterias, residuos de procesamiento, lubricantes, vapores, detergentes y solv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teria, por ejemplo, crece en sistemas de aguas y en superficies que no se limpian de forma regul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vez presentes en la fabricación y síntesis, bacterias pueden actuar como  contaminación por particulados  o pueden contribuir a concentración de iones orgánicos y metál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ánic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ánicos se  refiere a cualquier compuesto que no contenga carb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ntes inorgánicos incluyen átomos, moléculas, películas delgadas y residuos dejados por el proces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amiento basado en plasma, por ejemplo, puede dejar contaminantes de las paredes de la cámara y de las interacciones entre el substrato y el plas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Contaminació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84e9c"/>
                </a:solidFill>
                <a:latin typeface="Arial"/>
              </a:rPr>
              <a:t>Fuentes de </a:t>
            </a:r>
            <a:r>
              <a:rPr b="0" lang="en-US" sz="2800" spc="-1" strike="noStrike">
                <a:solidFill>
                  <a:srgbClr val="084e9c"/>
                </a:solidFill>
                <a:latin typeface="Arial"/>
              </a:rPr>
              <a:t>Contaminación y su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ción de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Contam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mente, todo lo que entra en contacto con un producto durante la manufactura es una fuente potencial de contam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ntes principales de contamin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ua de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dades de produc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ímicos del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del cuarto limpi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 del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6002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e, debido a la alta concentración de particulados y aerosoles, debe ser tratado antes de entrar a un cuarto limpio o ser usado en un ambiente controlado como en una campana extractora de vapores quím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niveles de limpieza del aire en cuartos limpios y campanas son identificados por los diámetros de los particulados y la densidad el el 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lidad del aire se identifica por un número de clas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esto es definido como  el número of partículas de 0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µm en diámetro o mayores en un pie cúbico de 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año de Partículas y Límites de Densidad en el Ambiente 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e Limpi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490680" y="1981080"/>
            <a:ext cx="8535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artículas por pie cúbico de tamaño igual o mayor al tamaño de partícula mostra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. Std. 209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maños de Partícul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1 Micras  0.2 Micras   0.3 Micras   0.5 Micras    5.0 Micr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5 Part.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8 Part.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 Part.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 Part.      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0 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50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75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0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0              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00            NA  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750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00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00            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,000         NA               NA                NA 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,000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0,000       NA               NA                NA 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0,000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e 100,000     NA               NA                NA        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,000      </a:t>
            </a:r>
            <a:r>
              <a:rPr b="1" lang="en-US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7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ural Area=2,000,00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ity/Industrial = 5,000,00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ategias de aire limpio para nanofabricación y sínt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ciones de Trabajo Limp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ños de Túneles/Bah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rtos Limpios To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-amb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de Trabaj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aproximación en la nanofabricación y síntesis es crear estaciones de trabajo individual como campanas químicas con filtros de aire y materiales que no suelten particu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cuarto amplio con estaciones de trabajo (o campanas extractoras) organizado en filas, de forma tal que los productos bajo fabricación puedan moverse a cada estación sin entrar en contacto con aire su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de Trabaj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filtros en las campanas limpias son conocidos como filtros HEPA (High Efficiency Particle Attenuation, Atenuación de Partículas de Alta Eficienc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filtros HEPA consisten de  grandes areas de  fibras porosas dobladas en un contenedor con forma de un acorde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filtros HEPA permiten el paso a baja velocidad (90-100 ft/min) de un gran volumen de aire con una eficiencia de filtrado del 99.99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1932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e9c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es Contaminació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y su Pre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ción de 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l Filtro HE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3"/>
          <p:cNvGrpSpPr/>
          <p:nvPr/>
        </p:nvGrpSpPr>
        <p:grpSpPr>
          <a:xfrm>
            <a:off x="2971800" y="2286000"/>
            <a:ext cx="2743200" cy="3035160"/>
            <a:chOff x="2971800" y="2286000"/>
            <a:chExt cx="2743200" cy="3035160"/>
          </a:xfrm>
        </p:grpSpPr>
        <p:sp>
          <p:nvSpPr>
            <p:cNvPr id="136" name="Line 5"/>
            <p:cNvSpPr/>
            <p:nvPr/>
          </p:nvSpPr>
          <p:spPr>
            <a:xfrm>
              <a:off x="2971800" y="342900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7"/>
            <p:cNvSpPr/>
            <p:nvPr/>
          </p:nvSpPr>
          <p:spPr>
            <a:xfrm flipV="1">
              <a:off x="2971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8"/>
            <p:cNvSpPr/>
            <p:nvPr/>
          </p:nvSpPr>
          <p:spPr>
            <a:xfrm>
              <a:off x="3200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9"/>
            <p:cNvSpPr/>
            <p:nvPr/>
          </p:nvSpPr>
          <p:spPr>
            <a:xfrm flipV="1">
              <a:off x="34290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36576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V="1">
              <a:off x="5257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>
              <a:off x="5486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 flipV="1">
              <a:off x="48006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50292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 flipV="1">
              <a:off x="43434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6"/>
            <p:cNvSpPr/>
            <p:nvPr/>
          </p:nvSpPr>
          <p:spPr>
            <a:xfrm>
              <a:off x="45720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 flipV="1">
              <a:off x="38862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4114800" y="365796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"/>
            <p:cNvSpPr/>
            <p:nvPr/>
          </p:nvSpPr>
          <p:spPr>
            <a:xfrm>
              <a:off x="5715000" y="342900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2"/>
            <p:cNvSpPr/>
            <p:nvPr/>
          </p:nvSpPr>
          <p:spPr>
            <a:xfrm>
              <a:off x="3200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3"/>
            <p:cNvSpPr/>
            <p:nvPr/>
          </p:nvSpPr>
          <p:spPr>
            <a:xfrm>
              <a:off x="34290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>
              <a:off x="36576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6"/>
            <p:cNvSpPr/>
            <p:nvPr/>
          </p:nvSpPr>
          <p:spPr>
            <a:xfrm>
              <a:off x="38862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1148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4343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9"/>
            <p:cNvSpPr/>
            <p:nvPr/>
          </p:nvSpPr>
          <p:spPr>
            <a:xfrm>
              <a:off x="45720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48006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50292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52578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5486400" y="29718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4"/>
            <p:cNvSpPr/>
            <p:nvPr/>
          </p:nvSpPr>
          <p:spPr>
            <a:xfrm>
              <a:off x="3401640" y="228600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ire Suci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>
              <a:off x="335268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403848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7"/>
            <p:cNvSpPr/>
            <p:nvPr/>
          </p:nvSpPr>
          <p:spPr>
            <a:xfrm>
              <a:off x="464832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8"/>
            <p:cNvSpPr/>
            <p:nvPr/>
          </p:nvSpPr>
          <p:spPr>
            <a:xfrm>
              <a:off x="5334120" y="4115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9"/>
            <p:cNvSpPr/>
            <p:nvPr/>
          </p:nvSpPr>
          <p:spPr>
            <a:xfrm>
              <a:off x="3346560" y="48006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ire Limpi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34"/>
          <p:cNvSpPr/>
          <p:nvPr/>
        </p:nvSpPr>
        <p:spPr>
          <a:xfrm>
            <a:off x="2952720" y="5832360"/>
            <a:ext cx="346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 de Trabaj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campana limpia típicamente tiene un flitro HEPA montado en la parte sup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e “sucio” es empujado a través del filtro y sale en un flujo la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escudo dirige el aire saliente sobre el area de trabajo dentro de la camp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os tipos de campana son conocidos como campanas de flujo vertical laminar (FLV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ción Transversal de la Campana F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2820960" y="5999040"/>
            <a:ext cx="351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69"/>
          <p:cNvGrpSpPr/>
          <p:nvPr/>
        </p:nvGrpSpPr>
        <p:grpSpPr>
          <a:xfrm>
            <a:off x="533520" y="1447920"/>
            <a:ext cx="8229600" cy="4452480"/>
            <a:chOff x="533520" y="1447920"/>
            <a:chExt cx="8229600" cy="4452480"/>
          </a:xfrm>
        </p:grpSpPr>
        <p:sp>
          <p:nvSpPr>
            <p:cNvPr id="173" name="Rectangle 3"/>
            <p:cNvSpPr/>
            <p:nvPr/>
          </p:nvSpPr>
          <p:spPr>
            <a:xfrm>
              <a:off x="2514600" y="1905120"/>
              <a:ext cx="3809880" cy="388620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21"/>
            <p:cNvGrpSpPr/>
            <p:nvPr/>
          </p:nvGrpSpPr>
          <p:grpSpPr>
            <a:xfrm>
              <a:off x="838080" y="1600200"/>
              <a:ext cx="1904760" cy="1066680"/>
              <a:chOff x="838080" y="1600200"/>
              <a:chExt cx="1904760" cy="1066680"/>
            </a:xfrm>
          </p:grpSpPr>
          <p:sp>
            <p:nvSpPr>
              <p:cNvPr id="175" name="Rounded Rectangle 6"/>
              <p:cNvSpPr/>
              <p:nvPr/>
            </p:nvSpPr>
            <p:spPr>
              <a:xfrm>
                <a:off x="2285640" y="2057400"/>
                <a:ext cx="457200" cy="60948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09480"/>
                  <a:gd name="textAreaBottom" fmla="*/ 587160 h 609480"/>
                </a:gdLst>
                <a:ahLst/>
                <a:rect l="textAreaLeft" t="textAreaTop" r="textAreaRight" b="textAreaBottom"/>
                <a:pathLst>
                  <a:path w="21600" h="28789">
                    <a:moveTo>
                      <a:pt x="3600" y="0"/>
                    </a:moveTo>
                    <a:arcTo wR="3600" hR="3600" stAng="16200000" swAng="-5400000"/>
                    <a:lnTo>
                      <a:pt x="0" y="25189"/>
                    </a:lnTo>
                    <a:arcTo wR="3600" hR="3600" stAng="10800000" swAng="-5400000"/>
                    <a:lnTo>
                      <a:pt x="18000" y="2878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4feff"/>
                  </a:gs>
                  <a:gs pos="100000">
                    <a:srgbClr val="f6ffff"/>
                  </a:gs>
                </a:gsLst>
                <a:lin ang="16200000"/>
              </a:gradFill>
              <a:ln w="9360">
                <a:solidFill>
                  <a:srgbClr val="d5e8ea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6" name="Straight Arrow Connector 10"/>
              <p:cNvCxnSpPr>
                <a:endCxn id="175" idx="1"/>
              </p:cNvCxnSpPr>
              <p:nvPr/>
            </p:nvCxnSpPr>
            <p:spPr>
              <a:xfrm>
                <a:off x="1675800" y="1904760"/>
                <a:ext cx="610200" cy="45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77" name="TextBox 13"/>
              <p:cNvSpPr/>
              <p:nvPr/>
            </p:nvSpPr>
            <p:spPr>
              <a:xfrm>
                <a:off x="838080" y="160020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e filtr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20"/>
            <p:cNvGrpSpPr/>
            <p:nvPr/>
          </p:nvGrpSpPr>
          <p:grpSpPr>
            <a:xfrm>
              <a:off x="3886200" y="1973160"/>
              <a:ext cx="914400" cy="860760"/>
              <a:chOff x="3886200" y="1973160"/>
              <a:chExt cx="914400" cy="860760"/>
            </a:xfrm>
          </p:grpSpPr>
          <p:sp>
            <p:nvSpPr>
              <p:cNvPr id="179" name="Oval 19"/>
              <p:cNvSpPr/>
              <p:nvPr/>
            </p:nvSpPr>
            <p:spPr>
              <a:xfrm>
                <a:off x="3886200" y="2057400"/>
                <a:ext cx="914400" cy="685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Pie 14"/>
              <p:cNvSpPr/>
              <p:nvPr/>
            </p:nvSpPr>
            <p:spPr>
              <a:xfrm rot="584400">
                <a:off x="4038120" y="2090160"/>
                <a:ext cx="609480" cy="609840"/>
              </a:xfrm>
              <a:custGeom>
                <a:avLst/>
                <a:gdLst/>
                <a:ahLst/>
                <a:rect l="l" t="t" r="r" b="b"/>
                <a:pathLst>
                  <a:path w="609600" h="609630">
                    <a:moveTo>
                      <a:pt x="177798" y="27721"/>
                    </a:moveTo>
                    <a:cubicBezTo>
                      <a:pt x="217646" y="9455"/>
                      <a:pt x="260965" y="0"/>
                      <a:pt x="304800" y="0"/>
                    </a:cubicBezTo>
                    <a:lnTo>
                      <a:pt x="304800" y="304815"/>
                    </a:lnTo>
                    <a:lnTo>
                      <a:pt x="177798" y="277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5618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Pie 15"/>
              <p:cNvSpPr/>
              <p:nvPr/>
            </p:nvSpPr>
            <p:spPr>
              <a:xfrm rot="18701400">
                <a:off x="4041360" y="209880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9098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Pie 16"/>
              <p:cNvSpPr/>
              <p:nvPr/>
            </p:nvSpPr>
            <p:spPr>
              <a:xfrm rot="14284800">
                <a:off x="4039560" y="210168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914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Pie 17"/>
              <p:cNvSpPr/>
              <p:nvPr/>
            </p:nvSpPr>
            <p:spPr>
              <a:xfrm rot="8996400">
                <a:off x="4037760" y="2098080"/>
                <a:ext cx="609480" cy="609840"/>
              </a:xfrm>
              <a:custGeom>
                <a:avLst/>
                <a:gdLst/>
                <a:ahLst/>
                <a:rect l="l" t="t" r="r" b="b"/>
                <a:pathLst>
                  <a:path w="609600" h="609630">
                    <a:moveTo>
                      <a:pt x="177798" y="27721"/>
                    </a:moveTo>
                    <a:cubicBezTo>
                      <a:pt x="217646" y="9455"/>
                      <a:pt x="260965" y="0"/>
                      <a:pt x="304800" y="0"/>
                    </a:cubicBezTo>
                    <a:lnTo>
                      <a:pt x="304800" y="304815"/>
                    </a:lnTo>
                    <a:lnTo>
                      <a:pt x="177798" y="277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7206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Pie 18"/>
              <p:cNvSpPr/>
              <p:nvPr/>
            </p:nvSpPr>
            <p:spPr>
              <a:xfrm rot="4338000">
                <a:off x="4042440" y="2097000"/>
                <a:ext cx="609840" cy="609480"/>
              </a:xfrm>
              <a:custGeom>
                <a:avLst/>
                <a:gdLst/>
                <a:ahLst/>
                <a:rect l="l" t="t" r="r" b="b"/>
                <a:pathLst>
                  <a:path w="609630" h="609600">
                    <a:moveTo>
                      <a:pt x="177817" y="27715"/>
                    </a:moveTo>
                    <a:cubicBezTo>
                      <a:pt x="217664" y="9453"/>
                      <a:pt x="260982" y="0"/>
                      <a:pt x="304815" y="0"/>
                    </a:cubicBezTo>
                    <a:lnTo>
                      <a:pt x="304815" y="304800"/>
                    </a:lnTo>
                    <a:lnTo>
                      <a:pt x="177817" y="277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1862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5" name="Straight Arrow Connector 25"/>
            <p:cNvCxnSpPr>
              <a:endCxn id="179" idx="7"/>
            </p:cNvCxnSpPr>
            <p:nvPr/>
          </p:nvCxnSpPr>
          <p:spPr>
            <a:xfrm flipH="1">
              <a:off x="4667040" y="1676520"/>
              <a:ext cx="210240" cy="48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86" name="TextBox 26"/>
            <p:cNvSpPr/>
            <p:nvPr/>
          </p:nvSpPr>
          <p:spPr>
            <a:xfrm>
              <a:off x="4876920" y="144792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ntilador (Soplador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Curved Down Arrow 27"/>
            <p:cNvSpPr/>
            <p:nvPr/>
          </p:nvSpPr>
          <p:spPr>
            <a:xfrm>
              <a:off x="3657600" y="1981080"/>
              <a:ext cx="1295280" cy="380880"/>
            </a:xfrm>
            <a:custGeom>
              <a:avLst/>
              <a:gdLst>
                <a:gd name="textAreaLeft" fmla="*/ 288000 w 1295280"/>
                <a:gd name="textAreaRight" fmla="*/ 959760 w 12952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09" hR="21600" stAng="10800000" swAng="5400000"/>
                  <a:lnTo>
                    <a:pt x="11197" y="0"/>
                  </a:lnTo>
                  <a:arcTo wR="9609" hR="21600" stAng="-5400000" swAng="3592139"/>
                  <a:lnTo>
                    <a:pt x="21295" y="16200"/>
                  </a:lnTo>
                  <a:lnTo>
                    <a:pt x="20012" y="21600"/>
                  </a:lnTo>
                  <a:lnTo>
                    <a:pt x="18119" y="16200"/>
                  </a:lnTo>
                  <a:lnTo>
                    <a:pt x="18913" y="16200"/>
                  </a:lnTo>
                  <a:arcTo wR="9609" hR="21600" stAng="-1807861" swAng="-3465393"/>
                  <a:lnTo>
                    <a:pt x="10403" y="74"/>
                  </a:lnTo>
                  <a:arcTo wR="9609" hR="21600" stAng="-5526745" swAng="-5273255"/>
                  <a:close/>
                </a:path>
                <a:path fill="darkenLess" w="21600" h="21600">
                  <a:moveTo>
                    <a:pt x="0" y="21600"/>
                  </a:moveTo>
                  <a:arcTo wR="9609" hR="21600" stAng="10800000" swAng="5400000"/>
                  <a:lnTo>
                    <a:pt x="9609" y="0"/>
                  </a:lnTo>
                  <a:arcTo wR="9609" hR="21600" stAng="-5400000" swAng="126745"/>
                  <a:lnTo>
                    <a:pt x="10403" y="74"/>
                  </a:lnTo>
                  <a:arcTo wR="9609" hR="21600" stAng="-5526745" swAng="-527325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Curved Connector 30"/>
            <p:cNvCxnSpPr>
              <a:endCxn id="175" idx="1"/>
            </p:cNvCxnSpPr>
            <p:nvPr/>
          </p:nvCxnSpPr>
          <p:spPr>
            <a:xfrm flipV="1">
              <a:off x="1599840" y="2361600"/>
              <a:ext cx="68652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89" name="Curved Connector 32"/>
            <p:cNvCxnSpPr>
              <a:endCxn id="175" idx="1"/>
            </p:cNvCxnSpPr>
            <p:nvPr/>
          </p:nvCxnSpPr>
          <p:spPr>
            <a:xfrm>
              <a:off x="1294920" y="1981080"/>
              <a:ext cx="991080" cy="381600"/>
            </a:xfrm>
            <a:prstGeom prst="curvedConnector5">
              <a:avLst>
                <a:gd name="adj1" fmla="val 50000"/>
                <a:gd name="adj2" fmla="val 49952"/>
                <a:gd name="adj3" fmla="val 50000"/>
              </a:avLst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90" name="Shape 35"/>
            <p:cNvCxnSpPr>
              <a:endCxn id="175" idx="1"/>
            </p:cNvCxnSpPr>
            <p:nvPr/>
          </p:nvCxnSpPr>
          <p:spPr>
            <a:xfrm flipH="1" rot="16200000">
              <a:off x="1828440" y="1904400"/>
              <a:ext cx="610200" cy="305280"/>
            </a:xfrm>
            <a:prstGeom prst="curvedConnector2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91" name="Straight Arrow Connector 39"/>
            <p:cNvCxnSpPr>
              <a:stCxn id="175" idx="3"/>
              <a:endCxn id="187" idx="1"/>
            </p:cNvCxnSpPr>
            <p:nvPr/>
          </p:nvCxnSpPr>
          <p:spPr>
            <a:xfrm>
              <a:off x="2743200" y="2362320"/>
              <a:ext cx="96264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sp>
          <p:nvSpPr>
            <p:cNvPr id="192" name="TextBox 41"/>
            <p:cNvSpPr/>
            <p:nvPr/>
          </p:nvSpPr>
          <p:spPr>
            <a:xfrm>
              <a:off x="533520" y="27432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8a"/>
                  </a:solidFill>
                  <a:latin typeface="Arial"/>
                </a:rPr>
                <a:t>Flujo de Ai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7"/>
            <p:cNvSpPr/>
            <p:nvPr/>
          </p:nvSpPr>
          <p:spPr>
            <a:xfrm>
              <a:off x="3149640" y="5010480"/>
              <a:ext cx="3200400" cy="78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62"/>
            <p:cNvSpPr/>
            <p:nvPr/>
          </p:nvSpPr>
          <p:spPr>
            <a:xfrm>
              <a:off x="7010640" y="525780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erficie de Trabaj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traight Connector 66"/>
            <p:cNvSpPr/>
            <p:nvPr/>
          </p:nvSpPr>
          <p:spPr>
            <a:xfrm flipH="1">
              <a:off x="6324840" y="3354480"/>
              <a:ext cx="1440" cy="16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79"/>
            <p:cNvSpPr/>
            <p:nvPr/>
          </p:nvSpPr>
          <p:spPr>
            <a:xfrm flipH="1">
              <a:off x="5865840" y="3506760"/>
              <a:ext cx="2880" cy="990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traight Connector 84"/>
            <p:cNvSpPr/>
            <p:nvPr/>
          </p:nvSpPr>
          <p:spPr>
            <a:xfrm flipH="1">
              <a:off x="5334120" y="3506760"/>
              <a:ext cx="1440" cy="8366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traight Connector 86"/>
            <p:cNvSpPr/>
            <p:nvPr/>
          </p:nvSpPr>
          <p:spPr>
            <a:xfrm flipH="1">
              <a:off x="4876920" y="3583080"/>
              <a:ext cx="1440" cy="6080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90"/>
            <p:cNvSpPr/>
            <p:nvPr/>
          </p:nvSpPr>
          <p:spPr>
            <a:xfrm flipH="1">
              <a:off x="3961080" y="3583080"/>
              <a:ext cx="2880" cy="4572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traight Connector 94"/>
            <p:cNvSpPr/>
            <p:nvPr/>
          </p:nvSpPr>
          <p:spPr>
            <a:xfrm flipH="1">
              <a:off x="3429000" y="3583080"/>
              <a:ext cx="1440" cy="303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" name="Straight Arrow Connector 98"/>
            <p:cNvCxnSpPr/>
            <p:nvPr/>
          </p:nvCxnSpPr>
          <p:spPr>
            <a:xfrm flipH="1" flipV="1">
              <a:off x="2133360" y="4495680"/>
              <a:ext cx="373464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202" name="Straight Arrow Connector 100"/>
            <p:cNvCxnSpPr/>
            <p:nvPr/>
          </p:nvCxnSpPr>
          <p:spPr>
            <a:xfrm flipH="1" flipV="1">
              <a:off x="1980360" y="4343040"/>
              <a:ext cx="335340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203" name="Straight Arrow Connector 102"/>
            <p:cNvCxnSpPr/>
            <p:nvPr/>
          </p:nvCxnSpPr>
          <p:spPr>
            <a:xfrm flipH="1" flipV="1">
              <a:off x="1904400" y="4190760"/>
              <a:ext cx="297252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204" name="Straight Arrow Connector 104"/>
            <p:cNvCxnSpPr/>
            <p:nvPr/>
          </p:nvCxnSpPr>
          <p:spPr>
            <a:xfrm flipH="1" flipV="1">
              <a:off x="1904760" y="4038480"/>
              <a:ext cx="205776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205" name="Straight Arrow Connector 107"/>
            <p:cNvCxnSpPr/>
            <p:nvPr/>
          </p:nvCxnSpPr>
          <p:spPr>
            <a:xfrm flipH="1" flipV="1">
              <a:off x="1904400" y="3885840"/>
              <a:ext cx="1524600" cy="216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grpSp>
          <p:nvGrpSpPr>
            <p:cNvPr id="206" name="Group 129"/>
            <p:cNvGrpSpPr/>
            <p:nvPr/>
          </p:nvGrpSpPr>
          <p:grpSpPr>
            <a:xfrm>
              <a:off x="2513880" y="2819520"/>
              <a:ext cx="3810600" cy="533160"/>
              <a:chOff x="2513880" y="2819520"/>
              <a:chExt cx="3810600" cy="533160"/>
            </a:xfrm>
          </p:grpSpPr>
          <p:sp>
            <p:nvSpPr>
              <p:cNvPr id="207" name="Rectangle 40"/>
              <p:cNvSpPr/>
              <p:nvPr/>
            </p:nvSpPr>
            <p:spPr>
              <a:xfrm>
                <a:off x="2514600" y="2819520"/>
                <a:ext cx="3809880" cy="53316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Straight Connector 116"/>
              <p:cNvSpPr/>
              <p:nvPr/>
            </p:nvSpPr>
            <p:spPr>
              <a:xfrm>
                <a:off x="2513880" y="3085920"/>
                <a:ext cx="228600" cy="26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Straight Connector 118"/>
              <p:cNvSpPr/>
              <p:nvPr/>
            </p:nvSpPr>
            <p:spPr>
              <a:xfrm>
                <a:off x="266688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Straight Connector 119"/>
              <p:cNvSpPr/>
              <p:nvPr/>
            </p:nvSpPr>
            <p:spPr>
              <a:xfrm>
                <a:off x="304776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Straight Connector 120"/>
              <p:cNvSpPr/>
              <p:nvPr/>
            </p:nvSpPr>
            <p:spPr>
              <a:xfrm>
                <a:off x="34290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Straight Connector 121"/>
              <p:cNvSpPr/>
              <p:nvPr/>
            </p:nvSpPr>
            <p:spPr>
              <a:xfrm>
                <a:off x="38862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Straight Connector 122"/>
              <p:cNvSpPr/>
              <p:nvPr/>
            </p:nvSpPr>
            <p:spPr>
              <a:xfrm>
                <a:off x="43434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Straight Connector 123"/>
              <p:cNvSpPr/>
              <p:nvPr/>
            </p:nvSpPr>
            <p:spPr>
              <a:xfrm>
                <a:off x="48006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Straight Connector 124"/>
              <p:cNvSpPr/>
              <p:nvPr/>
            </p:nvSpPr>
            <p:spPr>
              <a:xfrm>
                <a:off x="52578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Straight Connector 125"/>
              <p:cNvSpPr/>
              <p:nvPr/>
            </p:nvSpPr>
            <p:spPr>
              <a:xfrm>
                <a:off x="5715000" y="28195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Straight Connector 127"/>
              <p:cNvSpPr/>
              <p:nvPr/>
            </p:nvSpPr>
            <p:spPr>
              <a:xfrm>
                <a:off x="6095160" y="2819520"/>
                <a:ext cx="228600" cy="26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8" name="Straight Arrow Connector 111"/>
            <p:cNvCxnSpPr/>
            <p:nvPr/>
          </p:nvCxnSpPr>
          <p:spPr>
            <a:xfrm flipH="1">
              <a:off x="1904760" y="3580560"/>
              <a:ext cx="915120" cy="7668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sp>
          <p:nvSpPr>
            <p:cNvPr id="219" name="TextBox 112"/>
            <p:cNvSpPr/>
            <p:nvPr/>
          </p:nvSpPr>
          <p:spPr>
            <a:xfrm>
              <a:off x="6782040" y="281952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tro HEP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Straight Arrow Connector 114"/>
            <p:cNvCxnSpPr>
              <a:stCxn id="219" idx="1"/>
              <a:endCxn id="207" idx="3"/>
            </p:cNvCxnSpPr>
            <p:nvPr/>
          </p:nvCxnSpPr>
          <p:spPr>
            <a:xfrm flipH="1">
              <a:off x="6324480" y="3018960"/>
              <a:ext cx="457920" cy="6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Box 154"/>
            <p:cNvSpPr/>
            <p:nvPr/>
          </p:nvSpPr>
          <p:spPr>
            <a:xfrm>
              <a:off x="6782040" y="36576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ire Limpi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Straight Arrow Connector 156"/>
            <p:cNvCxnSpPr>
              <a:stCxn id="221" idx="1"/>
            </p:cNvCxnSpPr>
            <p:nvPr/>
          </p:nvCxnSpPr>
          <p:spPr>
            <a:xfrm flipH="1" flipV="1">
              <a:off x="5867280" y="3961800"/>
              <a:ext cx="915120" cy="1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23" name="Group 59"/>
            <p:cNvGrpSpPr/>
            <p:nvPr/>
          </p:nvGrpSpPr>
          <p:grpSpPr>
            <a:xfrm>
              <a:off x="2209680" y="3733920"/>
              <a:ext cx="914760" cy="2057400"/>
              <a:chOff x="2209680" y="3733920"/>
              <a:chExt cx="914760" cy="2057400"/>
            </a:xfrm>
          </p:grpSpPr>
          <p:sp>
            <p:nvSpPr>
              <p:cNvPr id="224" name="Straight Connector 60"/>
              <p:cNvSpPr/>
              <p:nvPr/>
            </p:nvSpPr>
            <p:spPr>
              <a:xfrm flipV="1">
                <a:off x="2514960" y="4351680"/>
                <a:ext cx="609480" cy="10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61"/>
              <p:cNvGrpSpPr/>
              <p:nvPr/>
            </p:nvGrpSpPr>
            <p:grpSpPr>
              <a:xfrm>
                <a:off x="2209680" y="3733920"/>
                <a:ext cx="762120" cy="2057400"/>
                <a:chOff x="2209680" y="3733920"/>
                <a:chExt cx="762120" cy="2057400"/>
              </a:xfrm>
            </p:grpSpPr>
            <p:sp>
              <p:nvSpPr>
                <p:cNvPr id="226" name="Oval 62"/>
                <p:cNvSpPr/>
                <p:nvPr/>
              </p:nvSpPr>
              <p:spPr>
                <a:xfrm flipH="1">
                  <a:off x="2209680" y="3733920"/>
                  <a:ext cx="609840" cy="4111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Straight Connector 63"/>
                <p:cNvSpPr/>
                <p:nvPr/>
              </p:nvSpPr>
              <p:spPr>
                <a:xfrm>
                  <a:off x="2511720" y="4146480"/>
                  <a:ext cx="2880" cy="80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Straight Connector 64"/>
                <p:cNvSpPr/>
                <p:nvPr/>
              </p:nvSpPr>
              <p:spPr>
                <a:xfrm>
                  <a:off x="2514960" y="4969080"/>
                  <a:ext cx="304920" cy="82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Straight Connector 65"/>
                <p:cNvSpPr/>
                <p:nvPr/>
              </p:nvSpPr>
              <p:spPr>
                <a:xfrm flipH="1">
                  <a:off x="2210400" y="4969080"/>
                  <a:ext cx="304920" cy="82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Straight Connector 67"/>
                <p:cNvSpPr/>
                <p:nvPr/>
              </p:nvSpPr>
              <p:spPr>
                <a:xfrm>
                  <a:off x="2514600" y="4454640"/>
                  <a:ext cx="457200" cy="204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31" name="Straight Arrow Connector 75"/>
            <p:cNvCxnSpPr>
              <a:stCxn id="194" idx="1"/>
              <a:endCxn id="193" idx="3"/>
            </p:cNvCxnSpPr>
            <p:nvPr/>
          </p:nvCxnSpPr>
          <p:spPr>
            <a:xfrm flipH="1" flipV="1">
              <a:off x="6350040" y="5400360"/>
              <a:ext cx="660600" cy="18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2" name="Straight Arrow Connector 43"/>
            <p:cNvCxnSpPr>
              <a:stCxn id="187" idx="3"/>
            </p:cNvCxnSpPr>
            <p:nvPr/>
          </p:nvCxnSpPr>
          <p:spPr>
            <a:xfrm>
              <a:off x="4857840" y="2362320"/>
              <a:ext cx="19440" cy="121968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233" name="Straight Arrow Connector 45"/>
            <p:cNvCxnSpPr/>
            <p:nvPr/>
          </p:nvCxnSpPr>
          <p:spPr>
            <a:xfrm flipH="1">
              <a:off x="5332320" y="2668680"/>
              <a:ext cx="3600" cy="83880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234" name="Straight Arrow Connector 49"/>
            <p:cNvCxnSpPr/>
            <p:nvPr/>
          </p:nvCxnSpPr>
          <p:spPr>
            <a:xfrm flipH="1">
              <a:off x="5867280" y="266688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235" name="Straight Arrow Connector 52"/>
            <p:cNvCxnSpPr/>
            <p:nvPr/>
          </p:nvCxnSpPr>
          <p:spPr>
            <a:xfrm flipH="1">
              <a:off x="396216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236" name="Straight Arrow Connector 53"/>
            <p:cNvCxnSpPr/>
            <p:nvPr/>
          </p:nvCxnSpPr>
          <p:spPr>
            <a:xfrm flipH="1">
              <a:off x="342864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  <p:cxnSp>
          <p:nvCxnSpPr>
            <p:cNvPr id="237" name="Straight Arrow Connector 55"/>
            <p:cNvCxnSpPr/>
            <p:nvPr/>
          </p:nvCxnSpPr>
          <p:spPr>
            <a:xfrm flipH="1">
              <a:off x="2819160" y="2743200"/>
              <a:ext cx="2160" cy="84024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 de Túnel/Bah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ontrol más exigente de particulados las campanas limpias son las menos populares debido al potencial de contaminación inducida por el pers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problema de contaminación puede ser resuelto al dividir el área de fabricación/síntesis en túneles o bahías separ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 de Túnel/Bah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diseño, aire limpio entra desde arriba a través de los filtros HEPA construidos en el te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materiales son menos vulnerables a contaminación generada por el personal debido a que hay menos operadores en el área cer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desventaja, es que los diseños de túnel/bahía son más costosos de construir que las campanas y menos versátiles que los cuartos limpios cuando se necesitan hacer cambios de proces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 de Túnel/Bah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6"/>
          <p:cNvGrpSpPr/>
          <p:nvPr/>
        </p:nvGrpSpPr>
        <p:grpSpPr>
          <a:xfrm>
            <a:off x="990720" y="1219320"/>
            <a:ext cx="6257880" cy="4267080"/>
            <a:chOff x="990720" y="1219320"/>
            <a:chExt cx="6257880" cy="4267080"/>
          </a:xfrm>
        </p:grpSpPr>
        <p:sp>
          <p:nvSpPr>
            <p:cNvPr id="244" name="TextBox 57"/>
            <p:cNvSpPr/>
            <p:nvPr/>
          </p:nvSpPr>
          <p:spPr>
            <a:xfrm>
              <a:off x="4038840" y="12193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ros HEP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49"/>
            <p:cNvGrpSpPr/>
            <p:nvPr/>
          </p:nvGrpSpPr>
          <p:grpSpPr>
            <a:xfrm>
              <a:off x="990720" y="1588320"/>
              <a:ext cx="6257880" cy="3898080"/>
              <a:chOff x="990720" y="1588320"/>
              <a:chExt cx="6257880" cy="3898080"/>
            </a:xfrm>
          </p:grpSpPr>
          <p:sp>
            <p:nvSpPr>
              <p:cNvPr id="246" name="Rectangle 2"/>
              <p:cNvSpPr/>
              <p:nvPr/>
            </p:nvSpPr>
            <p:spPr>
              <a:xfrm>
                <a:off x="2133720" y="1828440"/>
                <a:ext cx="5105520" cy="3657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3"/>
              <p:cNvSpPr/>
              <p:nvPr/>
            </p:nvSpPr>
            <p:spPr>
              <a:xfrm>
                <a:off x="2209680" y="4038480"/>
                <a:ext cx="2743200" cy="137160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Group 16"/>
              <p:cNvGrpSpPr/>
              <p:nvPr/>
            </p:nvGrpSpPr>
            <p:grpSpPr>
              <a:xfrm>
                <a:off x="4952520" y="2133360"/>
                <a:ext cx="1676880" cy="380880"/>
                <a:chOff x="4952520" y="2133360"/>
                <a:chExt cx="1676880" cy="380880"/>
              </a:xfrm>
            </p:grpSpPr>
            <p:sp>
              <p:nvSpPr>
                <p:cNvPr id="249" name="Rectangle 17"/>
                <p:cNvSpPr/>
                <p:nvPr/>
              </p:nvSpPr>
              <p:spPr>
                <a:xfrm>
                  <a:off x="4953240" y="2133360"/>
                  <a:ext cx="167616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cace1"/>
                    </a:gs>
                    <a:gs pos="100000">
                      <a:srgbClr val="e9e9f7"/>
                    </a:gs>
                  </a:gsLst>
                  <a:lin ang="16200000"/>
                </a:gradFill>
                <a:ln w="9360">
                  <a:solidFill>
                    <a:srgbClr val="292989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Straight Connector 18"/>
                <p:cNvSpPr/>
                <p:nvPr/>
              </p:nvSpPr>
              <p:spPr>
                <a:xfrm>
                  <a:off x="4952520" y="232308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Straight Connector 19"/>
                <p:cNvSpPr/>
                <p:nvPr/>
              </p:nvSpPr>
              <p:spPr>
                <a:xfrm>
                  <a:off x="502020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Straight Connector 20"/>
                <p:cNvSpPr/>
                <p:nvPr/>
              </p:nvSpPr>
              <p:spPr>
                <a:xfrm>
                  <a:off x="518760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Straight Connector 21"/>
                <p:cNvSpPr/>
                <p:nvPr/>
              </p:nvSpPr>
              <p:spPr>
                <a:xfrm>
                  <a:off x="535536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Straight Connector 22"/>
                <p:cNvSpPr/>
                <p:nvPr/>
              </p:nvSpPr>
              <p:spPr>
                <a:xfrm>
                  <a:off x="555660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Straight Connector 23"/>
                <p:cNvSpPr/>
                <p:nvPr/>
              </p:nvSpPr>
              <p:spPr>
                <a:xfrm>
                  <a:off x="575784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Straight Connector 24"/>
                <p:cNvSpPr/>
                <p:nvPr/>
              </p:nvSpPr>
              <p:spPr>
                <a:xfrm>
                  <a:off x="595908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Straight Connector 25"/>
                <p:cNvSpPr/>
                <p:nvPr/>
              </p:nvSpPr>
              <p:spPr>
                <a:xfrm>
                  <a:off x="616032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Straight Connector 26"/>
                <p:cNvSpPr/>
                <p:nvPr/>
              </p:nvSpPr>
              <p:spPr>
                <a:xfrm>
                  <a:off x="636120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Straight Connector 27"/>
                <p:cNvSpPr/>
                <p:nvPr/>
              </p:nvSpPr>
              <p:spPr>
                <a:xfrm>
                  <a:off x="6528240" y="213336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29"/>
              <p:cNvGrpSpPr/>
              <p:nvPr/>
            </p:nvGrpSpPr>
            <p:grpSpPr>
              <a:xfrm>
                <a:off x="2742480" y="2133360"/>
                <a:ext cx="1676880" cy="380880"/>
                <a:chOff x="2742480" y="2133360"/>
                <a:chExt cx="1676880" cy="380880"/>
              </a:xfrm>
            </p:grpSpPr>
            <p:sp>
              <p:nvSpPr>
                <p:cNvPr id="261" name="Rectangle 30"/>
                <p:cNvSpPr/>
                <p:nvPr/>
              </p:nvSpPr>
              <p:spPr>
                <a:xfrm>
                  <a:off x="2743200" y="2133360"/>
                  <a:ext cx="167616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cace1"/>
                    </a:gs>
                    <a:gs pos="100000">
                      <a:srgbClr val="e9e9f7"/>
                    </a:gs>
                  </a:gsLst>
                  <a:lin ang="16200000"/>
                </a:gradFill>
                <a:ln w="9360">
                  <a:solidFill>
                    <a:srgbClr val="292989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Straight Connector 31"/>
                <p:cNvSpPr/>
                <p:nvPr/>
              </p:nvSpPr>
              <p:spPr>
                <a:xfrm>
                  <a:off x="2742480" y="232308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Straight Connector 32"/>
                <p:cNvSpPr/>
                <p:nvPr/>
              </p:nvSpPr>
              <p:spPr>
                <a:xfrm>
                  <a:off x="281016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Straight Connector 33"/>
                <p:cNvSpPr/>
                <p:nvPr/>
              </p:nvSpPr>
              <p:spPr>
                <a:xfrm>
                  <a:off x="297756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Straight Connector 34"/>
                <p:cNvSpPr/>
                <p:nvPr/>
              </p:nvSpPr>
              <p:spPr>
                <a:xfrm>
                  <a:off x="314532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Straight Connector 35"/>
                <p:cNvSpPr/>
                <p:nvPr/>
              </p:nvSpPr>
              <p:spPr>
                <a:xfrm>
                  <a:off x="334656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Straight Connector 36"/>
                <p:cNvSpPr/>
                <p:nvPr/>
              </p:nvSpPr>
              <p:spPr>
                <a:xfrm>
                  <a:off x="354780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Straight Connector 37"/>
                <p:cNvSpPr/>
                <p:nvPr/>
              </p:nvSpPr>
              <p:spPr>
                <a:xfrm>
                  <a:off x="374904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Straight Connector 38"/>
                <p:cNvSpPr/>
                <p:nvPr/>
              </p:nvSpPr>
              <p:spPr>
                <a:xfrm>
                  <a:off x="395028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Straight Connector 39"/>
                <p:cNvSpPr/>
                <p:nvPr/>
              </p:nvSpPr>
              <p:spPr>
                <a:xfrm>
                  <a:off x="4151160" y="2133360"/>
                  <a:ext cx="20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Straight Connector 40"/>
                <p:cNvSpPr/>
                <p:nvPr/>
              </p:nvSpPr>
              <p:spPr>
                <a:xfrm>
                  <a:off x="4318200" y="2133360"/>
                  <a:ext cx="1004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Straight Connector 44"/>
              <p:cNvSpPr/>
              <p:nvPr/>
            </p:nvSpPr>
            <p:spPr>
              <a:xfrm flipH="1">
                <a:off x="2123640" y="2323800"/>
                <a:ext cx="618840" cy="1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Straight Connector 51"/>
              <p:cNvSpPr/>
              <p:nvPr/>
            </p:nvSpPr>
            <p:spPr>
              <a:xfrm>
                <a:off x="4419720" y="2323800"/>
                <a:ext cx="5331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Straight Connector 53"/>
              <p:cNvSpPr/>
              <p:nvPr/>
            </p:nvSpPr>
            <p:spPr>
              <a:xfrm>
                <a:off x="6629760" y="2323800"/>
                <a:ext cx="6188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5" name="Straight Arrow Connector 59"/>
              <p:cNvCxnSpPr>
                <a:stCxn id="244" idx="2"/>
                <a:endCxn id="261" idx="0"/>
              </p:cNvCxnSpPr>
              <p:nvPr/>
            </p:nvCxnSpPr>
            <p:spPr>
              <a:xfrm flipH="1">
                <a:off x="3581280" y="1588320"/>
                <a:ext cx="1219680" cy="5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6" name="Straight Arrow Connector 61"/>
              <p:cNvCxnSpPr>
                <a:stCxn id="244" idx="2"/>
                <a:endCxn id="249" idx="0"/>
              </p:cNvCxnSpPr>
              <p:nvPr/>
            </p:nvCxnSpPr>
            <p:spPr>
              <a:xfrm>
                <a:off x="4800240" y="1588320"/>
                <a:ext cx="991080" cy="5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pic>
            <p:nvPicPr>
              <p:cNvPr id="277" name="TextBox 63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0920" y="4517280"/>
                <a:ext cx="1603080" cy="816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78" name="Curved Connector 65"/>
              <p:cNvCxnSpPr/>
              <p:nvPr/>
            </p:nvCxnSpPr>
            <p:spPr>
              <a:xfrm rot="5400000">
                <a:off x="1828080" y="2361240"/>
                <a:ext cx="2057760" cy="686520"/>
              </a:xfrm>
              <a:prstGeom prst="curvedConnector5">
                <a:avLst>
                  <a:gd name="adj1" fmla="val 49991"/>
                  <a:gd name="adj2" fmla="val 50000"/>
                  <a:gd name="adj3" fmla="val 49991"/>
                </a:avLst>
              </a:prstGeom>
              <a:ln w="25560">
                <a:solidFill>
                  <a:srgbClr val="333399"/>
                </a:solidFill>
                <a:miter/>
                <a:tailEnd len="med" type="arrow" w="med"/>
              </a:ln>
            </p:spPr>
          </p:cxnSp>
          <p:cxnSp>
            <p:nvCxnSpPr>
              <p:cNvPr id="279" name="Curved Connector 67"/>
              <p:cNvCxnSpPr/>
              <p:nvPr/>
            </p:nvCxnSpPr>
            <p:spPr>
              <a:xfrm flipH="1" rot="16200000">
                <a:off x="2705040" y="2475720"/>
                <a:ext cx="1905840" cy="457920"/>
              </a:xfrm>
              <a:prstGeom prst="curvedConnector5">
                <a:avLst>
                  <a:gd name="adj1" fmla="val 49990"/>
                  <a:gd name="adj2" fmla="val 49960"/>
                  <a:gd name="adj3" fmla="val 49990"/>
                </a:avLst>
              </a:prstGeom>
              <a:ln w="25560">
                <a:solidFill>
                  <a:srgbClr val="333399"/>
                </a:solidFill>
                <a:miter/>
                <a:tailEnd len="med" type="arrow" w="med"/>
              </a:ln>
            </p:spPr>
          </p:cxnSp>
          <p:cxnSp>
            <p:nvCxnSpPr>
              <p:cNvPr id="280" name="Curved Connector 69"/>
              <p:cNvCxnSpPr/>
              <p:nvPr/>
            </p:nvCxnSpPr>
            <p:spPr>
              <a:xfrm rot="5400000">
                <a:off x="4114080" y="2437920"/>
                <a:ext cx="2210760" cy="53388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5560">
                <a:solidFill>
                  <a:srgbClr val="333399"/>
                </a:solidFill>
                <a:miter/>
                <a:tailEnd len="med" type="arrow" w="med"/>
              </a:ln>
            </p:spPr>
          </p:cxnSp>
          <p:cxnSp>
            <p:nvCxnSpPr>
              <p:cNvPr id="281" name="Curved Connector 71"/>
              <p:cNvCxnSpPr/>
              <p:nvPr/>
            </p:nvCxnSpPr>
            <p:spPr>
              <a:xfrm flipH="1" rot="16200000">
                <a:off x="4951800" y="2437920"/>
                <a:ext cx="2210760" cy="53388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5560">
                <a:solidFill>
                  <a:srgbClr val="333399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73"/>
              <p:cNvCxnSpPr/>
              <p:nvPr/>
            </p:nvCxnSpPr>
            <p:spPr>
              <a:xfrm>
                <a:off x="1523520" y="2895120"/>
                <a:ext cx="106740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83" name="TextBox 74"/>
              <p:cNvSpPr/>
              <p:nvPr/>
            </p:nvSpPr>
            <p:spPr>
              <a:xfrm>
                <a:off x="990720" y="2590560"/>
                <a:ext cx="91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ire Limpio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62"/>
              <p:cNvGrpSpPr/>
              <p:nvPr/>
            </p:nvGrpSpPr>
            <p:grpSpPr>
              <a:xfrm>
                <a:off x="5028840" y="3886200"/>
                <a:ext cx="457200" cy="1523880"/>
                <a:chOff x="5028840" y="3886200"/>
                <a:chExt cx="457200" cy="1523880"/>
              </a:xfrm>
            </p:grpSpPr>
            <p:sp>
              <p:nvSpPr>
                <p:cNvPr id="285" name="Straight Connector 55"/>
                <p:cNvSpPr/>
                <p:nvPr/>
              </p:nvSpPr>
              <p:spPr>
                <a:xfrm flipH="1" flipV="1">
                  <a:off x="5028840" y="4343040"/>
                  <a:ext cx="30492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Group 61"/>
                <p:cNvGrpSpPr/>
                <p:nvPr/>
              </p:nvGrpSpPr>
              <p:grpSpPr>
                <a:xfrm>
                  <a:off x="5104800" y="3886200"/>
                  <a:ext cx="381240" cy="1523880"/>
                  <a:chOff x="5104800" y="3886200"/>
                  <a:chExt cx="381240" cy="1523880"/>
                </a:xfrm>
              </p:grpSpPr>
              <p:sp>
                <p:nvSpPr>
                  <p:cNvPr id="287" name="Oval 41"/>
                  <p:cNvSpPr/>
                  <p:nvPr/>
                </p:nvSpPr>
                <p:spPr>
                  <a:xfrm>
                    <a:off x="5181120" y="3886200"/>
                    <a:ext cx="304920" cy="3045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Straight Connector 43"/>
                  <p:cNvSpPr/>
                  <p:nvPr/>
                </p:nvSpPr>
                <p:spPr>
                  <a:xfrm flipH="1">
                    <a:off x="5333760" y="4190760"/>
                    <a:ext cx="1440" cy="6001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Straight Connector 48"/>
                  <p:cNvSpPr/>
                  <p:nvPr/>
                </p:nvSpPr>
                <p:spPr>
                  <a:xfrm flipH="1">
                    <a:off x="5180760" y="4800600"/>
                    <a:ext cx="152280" cy="609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Straight Connector 50"/>
                  <p:cNvSpPr/>
                  <p:nvPr/>
                </p:nvSpPr>
                <p:spPr>
                  <a:xfrm>
                    <a:off x="5333040" y="4800600"/>
                    <a:ext cx="152280" cy="609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Straight Connector 57"/>
                  <p:cNvSpPr/>
                  <p:nvPr/>
                </p:nvSpPr>
                <p:spPr>
                  <a:xfrm flipH="1">
                    <a:off x="5104800" y="4418640"/>
                    <a:ext cx="22860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2" name="Rectangle 68"/>
          <p:cNvSpPr/>
          <p:nvPr/>
        </p:nvSpPr>
        <p:spPr>
          <a:xfrm>
            <a:off x="2676600" y="5638680"/>
            <a:ext cx="378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ía del Cuarto Limpio To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estrategía emplea un area abierta de fabricación/sínt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do de aire se logra a través de filtros HEPA en el techo con ductos de retorno en el piso para generar un flujo continuo de 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flujo continuo de aire limpio permite una recuperación rápida, es decir la cantidad de tiempo que le toma a los filtros retornar el aire del área de trabajo a condiciones aceptables de operación después de una perturb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facilidad de clase 1 cambia el aire cada 6 segund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rto Limpio To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685800" y="1452600"/>
            <a:ext cx="7543800" cy="47959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8"/>
          <p:cNvSpPr/>
          <p:nvPr/>
        </p:nvSpPr>
        <p:spPr>
          <a:xfrm>
            <a:off x="6629400" y="6064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an Aznt, Peter.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icrochip Fabrication 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 McGraw Hill.  New York. 200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2057400" y="16794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e Fre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1447920" y="4800600"/>
            <a:ext cx="1904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so de Loset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6705720" y="2666880"/>
            <a:ext cx="106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ilad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5181480" y="3962520"/>
            <a:ext cx="609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Óptic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3657600" y="4476600"/>
            <a:ext cx="14479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so Perf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798720" y="3200400"/>
            <a:ext cx="13068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arto Limp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962520" y="2676600"/>
            <a:ext cx="1143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tros HEP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4267080" y="5000760"/>
            <a:ext cx="160020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 Rígida para Equipo Ópt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6400800" y="3200400"/>
            <a:ext cx="762120" cy="4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rculación de ai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1905120" y="3214800"/>
            <a:ext cx="761760" cy="4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rculación de ai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4"/>
          <p:cNvSpPr/>
          <p:nvPr/>
        </p:nvSpPr>
        <p:spPr>
          <a:xfrm>
            <a:off x="990720" y="5559480"/>
            <a:ext cx="50292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ción transversal del flujo laminar de un cuarto limp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-amb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ontinuo incremento en costos de los cuartos limpios con limitado retorno de efectividad ha resultado en otro concepto de aislar materiales en ambientes tan pequeños como sean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roblema de cómo encadenar un número de mini-ambientes, de tal manera que un producto nunca se expone al aire de la habitación se resuelve mediante el transporte de las muestras en un ambiente lim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ejemplo de la aplicación industrial de este enfoque es la Interfaz Estándar Mecánica (IFEM)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wlett-Packard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IF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s IFEM tienen tres partes princip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ápsula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aja, para transportación de mater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ini-ambiente aislado en la siguiente estación de proc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mecanismo para extraer y descargar materiales en cada estación de procesamiento suses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do, equipo de procesamiento, facilidades de procesamiento (e.g., cuartos limpios), y el personal que desempeña procesos pueden causar contaminación, daños, o ambos a productos en escala micro y n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do a que este curso se centra en el procesado, se debe primero atender estas preocupaciones gene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IF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8"/>
          <p:cNvGrpSpPr/>
          <p:nvPr/>
        </p:nvGrpSpPr>
        <p:grpSpPr>
          <a:xfrm>
            <a:off x="533520" y="914400"/>
            <a:ext cx="8458200" cy="4952880"/>
            <a:chOff x="533520" y="914400"/>
            <a:chExt cx="8458200" cy="4952880"/>
          </a:xfrm>
        </p:grpSpPr>
        <p:sp>
          <p:nvSpPr>
            <p:cNvPr id="315" name="Rectangle 2"/>
            <p:cNvSpPr/>
            <p:nvPr/>
          </p:nvSpPr>
          <p:spPr>
            <a:xfrm>
              <a:off x="533520" y="1752480"/>
              <a:ext cx="5715000" cy="4114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3"/>
            <p:cNvSpPr/>
            <p:nvPr/>
          </p:nvSpPr>
          <p:spPr>
            <a:xfrm>
              <a:off x="6705720" y="2286000"/>
              <a:ext cx="2286000" cy="144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lowchart: Manual Operation 4"/>
            <p:cNvSpPr/>
            <p:nvPr/>
          </p:nvSpPr>
          <p:spPr>
            <a:xfrm>
              <a:off x="6934320" y="3276360"/>
              <a:ext cx="1828800" cy="228600"/>
            </a:xfrm>
            <a:prstGeom prst="flowChartManualOperation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6"/>
            <p:cNvSpPr/>
            <p:nvPr/>
          </p:nvSpPr>
          <p:spPr>
            <a:xfrm flipH="1">
              <a:off x="7161480" y="2820960"/>
              <a:ext cx="28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7"/>
            <p:cNvSpPr/>
            <p:nvPr/>
          </p:nvSpPr>
          <p:spPr>
            <a:xfrm flipH="1">
              <a:off x="73155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traight Connector 8"/>
            <p:cNvSpPr/>
            <p:nvPr/>
          </p:nvSpPr>
          <p:spPr>
            <a:xfrm flipH="1">
              <a:off x="74678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traight Connector 9"/>
            <p:cNvSpPr/>
            <p:nvPr/>
          </p:nvSpPr>
          <p:spPr>
            <a:xfrm flipH="1">
              <a:off x="76201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10"/>
            <p:cNvSpPr/>
            <p:nvPr/>
          </p:nvSpPr>
          <p:spPr>
            <a:xfrm flipH="1">
              <a:off x="77727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11"/>
            <p:cNvSpPr/>
            <p:nvPr/>
          </p:nvSpPr>
          <p:spPr>
            <a:xfrm flipH="1">
              <a:off x="79250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12"/>
            <p:cNvSpPr/>
            <p:nvPr/>
          </p:nvSpPr>
          <p:spPr>
            <a:xfrm flipH="1">
              <a:off x="80773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traight Connector 13"/>
            <p:cNvSpPr/>
            <p:nvPr/>
          </p:nvSpPr>
          <p:spPr>
            <a:xfrm flipH="1">
              <a:off x="822996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traight Connector 14"/>
            <p:cNvSpPr/>
            <p:nvPr/>
          </p:nvSpPr>
          <p:spPr>
            <a:xfrm flipH="1">
              <a:off x="838224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15"/>
            <p:cNvSpPr/>
            <p:nvPr/>
          </p:nvSpPr>
          <p:spPr>
            <a:xfrm flipH="1">
              <a:off x="8534520" y="281916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7"/>
            <p:cNvGrpSpPr/>
            <p:nvPr/>
          </p:nvGrpSpPr>
          <p:grpSpPr>
            <a:xfrm>
              <a:off x="6629760" y="2285640"/>
              <a:ext cx="152280" cy="1448280"/>
              <a:chOff x="6629760" y="2285640"/>
              <a:chExt cx="152280" cy="1448280"/>
            </a:xfrm>
          </p:grpSpPr>
          <p:sp>
            <p:nvSpPr>
              <p:cNvPr id="329" name="Rectangle 18"/>
              <p:cNvSpPr/>
              <p:nvPr/>
            </p:nvSpPr>
            <p:spPr>
              <a:xfrm rot="16200000">
                <a:off x="5982120" y="2933280"/>
                <a:ext cx="1447560" cy="15228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Straight Connector 19"/>
              <p:cNvSpPr/>
              <p:nvPr/>
            </p:nvSpPr>
            <p:spPr>
              <a:xfrm flipV="1">
                <a:off x="6705720" y="3647160"/>
                <a:ext cx="7632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20"/>
              <p:cNvSpPr/>
              <p:nvPr/>
            </p:nvSpPr>
            <p:spPr>
              <a:xfrm flipV="1">
                <a:off x="6629760" y="35020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21"/>
              <p:cNvSpPr/>
              <p:nvPr/>
            </p:nvSpPr>
            <p:spPr>
              <a:xfrm flipV="1">
                <a:off x="6629760" y="3357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Straight Connector 22"/>
              <p:cNvSpPr/>
              <p:nvPr/>
            </p:nvSpPr>
            <p:spPr>
              <a:xfrm flipV="1">
                <a:off x="6629760" y="32122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Straight Connector 23"/>
              <p:cNvSpPr/>
              <p:nvPr/>
            </p:nvSpPr>
            <p:spPr>
              <a:xfrm flipV="1">
                <a:off x="6629760" y="303876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Straight Connector 24"/>
              <p:cNvSpPr/>
              <p:nvPr/>
            </p:nvSpPr>
            <p:spPr>
              <a:xfrm flipV="1">
                <a:off x="6629760" y="28648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25"/>
              <p:cNvSpPr/>
              <p:nvPr/>
            </p:nvSpPr>
            <p:spPr>
              <a:xfrm flipV="1">
                <a:off x="6629760" y="2691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Straight Connector 26"/>
              <p:cNvSpPr/>
              <p:nvPr/>
            </p:nvSpPr>
            <p:spPr>
              <a:xfrm flipV="1">
                <a:off x="6629760" y="25174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Straight Connector 27"/>
              <p:cNvSpPr/>
              <p:nvPr/>
            </p:nvSpPr>
            <p:spPr>
              <a:xfrm flipV="1">
                <a:off x="6629760" y="23436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Straight Connector 28"/>
              <p:cNvSpPr/>
              <p:nvPr/>
            </p:nvSpPr>
            <p:spPr>
              <a:xfrm flipV="1">
                <a:off x="6629760" y="2286360"/>
                <a:ext cx="759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29"/>
            <p:cNvGrpSpPr/>
            <p:nvPr/>
          </p:nvGrpSpPr>
          <p:grpSpPr>
            <a:xfrm>
              <a:off x="6248520" y="2285640"/>
              <a:ext cx="152280" cy="1448280"/>
              <a:chOff x="6248520" y="2285640"/>
              <a:chExt cx="152280" cy="1448280"/>
            </a:xfrm>
          </p:grpSpPr>
          <p:sp>
            <p:nvSpPr>
              <p:cNvPr id="341" name="Rectangle 30"/>
              <p:cNvSpPr/>
              <p:nvPr/>
            </p:nvSpPr>
            <p:spPr>
              <a:xfrm rot="16200000">
                <a:off x="5600880" y="2933280"/>
                <a:ext cx="1447560" cy="152280"/>
              </a:xfrm>
              <a:prstGeom prst="rect">
                <a:avLst/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Straight Connector 31"/>
              <p:cNvSpPr/>
              <p:nvPr/>
            </p:nvSpPr>
            <p:spPr>
              <a:xfrm flipV="1">
                <a:off x="6324480" y="3647160"/>
                <a:ext cx="7632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Straight Connector 32"/>
              <p:cNvSpPr/>
              <p:nvPr/>
            </p:nvSpPr>
            <p:spPr>
              <a:xfrm flipV="1">
                <a:off x="6248520" y="35020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Straight Connector 33"/>
              <p:cNvSpPr/>
              <p:nvPr/>
            </p:nvSpPr>
            <p:spPr>
              <a:xfrm flipV="1">
                <a:off x="6248520" y="3357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Straight Connector 34"/>
              <p:cNvSpPr/>
              <p:nvPr/>
            </p:nvSpPr>
            <p:spPr>
              <a:xfrm flipV="1">
                <a:off x="6248520" y="32122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Straight Connector 35"/>
              <p:cNvSpPr/>
              <p:nvPr/>
            </p:nvSpPr>
            <p:spPr>
              <a:xfrm flipV="1">
                <a:off x="6248520" y="303876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Straight Connector 36"/>
              <p:cNvSpPr/>
              <p:nvPr/>
            </p:nvSpPr>
            <p:spPr>
              <a:xfrm flipV="1">
                <a:off x="6248520" y="28648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37"/>
              <p:cNvSpPr/>
              <p:nvPr/>
            </p:nvSpPr>
            <p:spPr>
              <a:xfrm flipV="1">
                <a:off x="6248520" y="26910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Straight Connector 38"/>
              <p:cNvSpPr/>
              <p:nvPr/>
            </p:nvSpPr>
            <p:spPr>
              <a:xfrm flipV="1">
                <a:off x="6248520" y="251748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Straight Connector 39"/>
              <p:cNvSpPr/>
              <p:nvPr/>
            </p:nvSpPr>
            <p:spPr>
              <a:xfrm flipV="1">
                <a:off x="6248520" y="2343600"/>
                <a:ext cx="152280" cy="1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Straight Connector 40"/>
              <p:cNvSpPr/>
              <p:nvPr/>
            </p:nvSpPr>
            <p:spPr>
              <a:xfrm flipV="1">
                <a:off x="6248520" y="2286360"/>
                <a:ext cx="759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Box 41"/>
            <p:cNvSpPr/>
            <p:nvPr/>
          </p:nvSpPr>
          <p:spPr>
            <a:xfrm>
              <a:off x="7467840" y="914400"/>
              <a:ext cx="152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ápsula aislada con vacío o atmósfera iner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Straight Arrow Connector 43"/>
            <p:cNvCxnSpPr>
              <a:stCxn id="352" idx="2"/>
              <a:endCxn id="316" idx="0"/>
            </p:cNvCxnSpPr>
            <p:nvPr/>
          </p:nvCxnSpPr>
          <p:spPr>
            <a:xfrm flipH="1">
              <a:off x="7848360" y="1652760"/>
              <a:ext cx="381600" cy="63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4" name="TextBox 46"/>
            <p:cNvSpPr/>
            <p:nvPr/>
          </p:nvSpPr>
          <p:spPr>
            <a:xfrm>
              <a:off x="6782040" y="3486240"/>
              <a:ext cx="220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leas de silicio en un caset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47"/>
            <p:cNvSpPr/>
            <p:nvPr/>
          </p:nvSpPr>
          <p:spPr>
            <a:xfrm>
              <a:off x="6401160" y="4038480"/>
              <a:ext cx="213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z Estándar Mecánica (IFEM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Straight Arrow Connector 49"/>
            <p:cNvCxnSpPr>
              <a:endCxn id="341" idx="1"/>
            </p:cNvCxnSpPr>
            <p:nvPr/>
          </p:nvCxnSpPr>
          <p:spPr>
            <a:xfrm flipH="1" flipV="1">
              <a:off x="6324120" y="3733560"/>
              <a:ext cx="2293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Straight Arrow Connector 51"/>
            <p:cNvCxnSpPr>
              <a:endCxn id="329" idx="1"/>
            </p:cNvCxnSpPr>
            <p:nvPr/>
          </p:nvCxnSpPr>
          <p:spPr>
            <a:xfrm flipV="1">
              <a:off x="6552360" y="3733560"/>
              <a:ext cx="15300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Shape 53"/>
            <p:cNvCxnSpPr>
              <a:stCxn id="315" idx="0"/>
            </p:cNvCxnSpPr>
            <p:nvPr/>
          </p:nvCxnSpPr>
          <p:spPr>
            <a:xfrm flipH="1" rot="16200000">
              <a:off x="3775680" y="1366560"/>
              <a:ext cx="2086560" cy="2858040"/>
            </a:xfrm>
            <a:prstGeom prst="bentConnector4">
              <a:avLst>
                <a:gd name="adj1" fmla="val 100914"/>
                <a:gd name="adj2" fmla="val 327"/>
              </a:avLst>
            </a:prstGeom>
            <a:ln w="76320">
              <a:solidFill>
                <a:srgbClr val="000000"/>
              </a:solidFill>
              <a:round/>
            </a:ln>
          </p:spPr>
        </p:cxnSp>
        <p:sp>
          <p:nvSpPr>
            <p:cNvPr id="359" name="Trapezoid 61"/>
            <p:cNvSpPr/>
            <p:nvPr/>
          </p:nvSpPr>
          <p:spPr>
            <a:xfrm>
              <a:off x="3848040" y="3610080"/>
              <a:ext cx="1066680" cy="228600"/>
            </a:xfrm>
            <a:custGeom>
              <a:avLst/>
              <a:gdLst/>
              <a:ahLst/>
              <a:rect l="l" t="t" r="r" b="b"/>
              <a:pathLst>
                <a:path w="1066800" h="228600">
                  <a:moveTo>
                    <a:pt x="0" y="228600"/>
                  </a:moveTo>
                  <a:lnTo>
                    <a:pt x="57150" y="0"/>
                  </a:lnTo>
                  <a:lnTo>
                    <a:pt x="1009650" y="0"/>
                  </a:lnTo>
                  <a:lnTo>
                    <a:pt x="1066800" y="228600"/>
                  </a:lnTo>
                  <a:lnTo>
                    <a:pt x="0" y="228600"/>
                  </a:lnTo>
                  <a:close/>
                </a:path>
              </a:pathLst>
            </a:cu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Shape 51"/>
            <p:cNvCxnSpPr>
              <a:stCxn id="359" idx="0"/>
            </p:cNvCxnSpPr>
            <p:nvPr/>
          </p:nvCxnSpPr>
          <p:spPr>
            <a:xfrm flipH="1" flipV="1" rot="5400000">
              <a:off x="4462200" y="2966400"/>
              <a:ext cx="562680" cy="724320"/>
            </a:xfrm>
            <a:prstGeom prst="bentConnector2">
              <a:avLst/>
            </a:prstGeom>
            <a:ln w="38160">
              <a:solidFill>
                <a:srgbClr val="000000"/>
              </a:solidFill>
              <a:round/>
            </a:ln>
          </p:spPr>
        </p:cxnSp>
        <p:sp>
          <p:nvSpPr>
            <p:cNvPr id="361" name="Left Brace 52"/>
            <p:cNvSpPr/>
            <p:nvPr/>
          </p:nvSpPr>
          <p:spPr>
            <a:xfrm>
              <a:off x="5105520" y="2743200"/>
              <a:ext cx="838080" cy="609480"/>
            </a:xfrm>
            <a:custGeom>
              <a:avLst/>
              <a:gdLst>
                <a:gd name="textAreaLeft" fmla="*/ 535320 w 838080"/>
                <a:gd name="textAreaRight" fmla="*/ 838440 w 8380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59"/>
            <p:cNvSpPr/>
            <p:nvPr/>
          </p:nvSpPr>
          <p:spPr>
            <a:xfrm>
              <a:off x="990720" y="259056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ámara de Proces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Group 29" descr=""/>
            <p:cNvPicPr/>
            <p:nvPr/>
          </p:nvPicPr>
          <p:blipFill>
            <a:blip r:embed="rId1"/>
            <a:stretch/>
          </p:blipFill>
          <p:spPr>
            <a:xfrm>
              <a:off x="3304080" y="1725120"/>
              <a:ext cx="298440" cy="22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Rectangle 73"/>
            <p:cNvSpPr/>
            <p:nvPr/>
          </p:nvSpPr>
          <p:spPr>
            <a:xfrm>
              <a:off x="990720" y="4191120"/>
              <a:ext cx="1828800" cy="12189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4"/>
            <p:cNvSpPr/>
            <p:nvPr/>
          </p:nvSpPr>
          <p:spPr>
            <a:xfrm>
              <a:off x="3657600" y="4191120"/>
              <a:ext cx="1828800" cy="12189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75"/>
            <p:cNvSpPr/>
            <p:nvPr/>
          </p:nvSpPr>
          <p:spPr>
            <a:xfrm>
              <a:off x="4267440" y="18288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guro de Carga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76"/>
            <p:cNvSpPr/>
            <p:nvPr/>
          </p:nvSpPr>
          <p:spPr>
            <a:xfrm>
              <a:off x="3657600" y="2514600"/>
              <a:ext cx="1447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zo de carga robótico para oblea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77"/>
            <p:cNvSpPr/>
            <p:nvPr/>
          </p:nvSpPr>
          <p:spPr>
            <a:xfrm>
              <a:off x="1523880" y="3352680"/>
              <a:ext cx="175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lo interno de la cámara princip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Straight Arrow Connector 79"/>
            <p:cNvCxnSpPr/>
            <p:nvPr/>
          </p:nvCxnSpPr>
          <p:spPr>
            <a:xfrm flipV="1">
              <a:off x="2438280" y="2805120"/>
              <a:ext cx="915120" cy="70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70" name="Rectangle 69"/>
          <p:cNvSpPr/>
          <p:nvPr/>
        </p:nvSpPr>
        <p:spPr>
          <a:xfrm>
            <a:off x="609480" y="6114960"/>
            <a:ext cx="35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IF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EMs tienen la ventaj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 control de temperatura y hume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n las pérdidas de producción debidas a contam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, las cápsulas pueden ser demasiado pesadas y costo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s pueden ser usados para manejar cajas de IFEM, lo que incrementa los costos y la complej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dad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facilidad de producció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 suma importancia para las industrias de p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ntaminación puede ocurrir en cualquier etapa de la fabricación/sínt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uimientos estrictos al nivel de contaminación y de protocolos de procedimiento se requieren a menudo para asegurar un ambiente ultra lim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uarto Limpio Mod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diseño del cuarto limpio tradicional sigue el diseño de un salón de baile, donde los túneles de procesos individuales se abren a un pasillo cent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da cuarto limpio es un compromiso entre la limpieza y el costo, pero todos se construyen a partir de un diseño prim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cuarto sellado que se le suministra aire lim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eriales de construcción que son no contamin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s que previenen la contaminación a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ol de vibraciones, para equipos sens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cuartos limpios utilizan una serie de técnicas para mantener alejada la contaminación y evitar efectos adversos en los procesos de fabrication/sínt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os del Cuart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260172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ombras adhe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Est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ea  de uso de batas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eas de paso de doble pu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4720" y="260172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e a presión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piadores de zap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chas de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ntes de limpi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hía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de Cuart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ersonas son una de las mayores fuentes de contaminación en el cuarto lim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operador de cuarto limpio, incluso después de bañarse, puede generar entre 100,000 y 1,000,000 partículas por minuto – este número aumenta cuando una persona está en mov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inando a dos millas por hora, una persona libera hasta 5 milliones de  partículas por minu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6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9"/>
          <p:cNvGrpSpPr/>
          <p:nvPr/>
        </p:nvGrpSpPr>
        <p:grpSpPr>
          <a:xfrm>
            <a:off x="0" y="581040"/>
            <a:ext cx="9067680" cy="5695920"/>
            <a:chOff x="0" y="581040"/>
            <a:chExt cx="9067680" cy="5695920"/>
          </a:xfrm>
        </p:grpSpPr>
        <p:pic>
          <p:nvPicPr>
            <p:cNvPr id="38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581040"/>
              <a:ext cx="2819160" cy="56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Box 4"/>
            <p:cNvSpPr/>
            <p:nvPr/>
          </p:nvSpPr>
          <p:spPr>
            <a:xfrm>
              <a:off x="3581280" y="3102120"/>
              <a:ext cx="5486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AMINACIÓN HUMANA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BLANDO NORMAL (saliva) – 2 a 3 p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SER (saliva y tejido pulmonar) – 4 a 6 p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TORNUDAR – 10 a15 pies @ 200 MPH, emite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1,400,000 partícula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7" name="Straight Arrow Connector 8"/>
            <p:cNvCxnSpPr/>
            <p:nvPr/>
          </p:nvCxnSpPr>
          <p:spPr>
            <a:xfrm>
              <a:off x="3124080" y="380988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Straight Arrow Connector 10"/>
            <p:cNvCxnSpPr/>
            <p:nvPr/>
          </p:nvCxnSpPr>
          <p:spPr>
            <a:xfrm>
              <a:off x="3124080" y="434340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9" name="Straight Arrow Connector 13"/>
            <p:cNvCxnSpPr/>
            <p:nvPr/>
          </p:nvCxnSpPr>
          <p:spPr>
            <a:xfrm>
              <a:off x="3124080" y="4875120"/>
              <a:ext cx="457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0" name="Straight Connector 15"/>
            <p:cNvSpPr/>
            <p:nvPr/>
          </p:nvSpPr>
          <p:spPr>
            <a:xfrm flipH="1">
              <a:off x="3124080" y="3811680"/>
              <a:ext cx="1440" cy="10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1" name="Straight Arrow Connector 20"/>
            <p:cNvCxnSpPr/>
            <p:nvPr/>
          </p:nvCxnSpPr>
          <p:spPr>
            <a:xfrm>
              <a:off x="2437920" y="4343400"/>
              <a:ext cx="53388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de Cuart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que pueden ser generadas por el personal pueden provenir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jidos inertes de cabellos y p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os para el cab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os cosm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los o cabellos corp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s de 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ículas variadas de la respi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1"/>
          <p:cNvSpPr/>
          <p:nvPr/>
        </p:nvSpPr>
        <p:spPr>
          <a:xfrm>
            <a:off x="679320" y="293760"/>
            <a:ext cx="7810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MINACIÓN HUMA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ULADOS DE SALIVA CONTIEN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PA CONTI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a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es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troge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o (Traza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DOR/TRANSPIRACIÓN CONTI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METICOS CONTIE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min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lfu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an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min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es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tróge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lfu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2543040" y="44956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ELLAS DACTILAR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E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o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5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can Air filter Compan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2162160" y="1990800"/>
            <a:ext cx="4819680" cy="39528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2"/>
          <p:cNvSpPr/>
          <p:nvPr/>
        </p:nvSpPr>
        <p:spPr>
          <a:xfrm>
            <a:off x="152280" y="2746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is  de Partículas Cosmétic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de Energía Dispersiva de Rayos X (ED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un Microscopio de Barrido Electrónico (S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84e9c"/>
                </a:solidFill>
                <a:latin typeface="Arial"/>
              </a:rPr>
              <a:t>¿Qué es Contaminació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y su Pre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ción de 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de Cuarto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ersonas deben estar aisladas, tanto como sea posible, del contacto directo con los nano mater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iendo de la situación, el personal debe estar protegido por vestimenta especial para cuartos limpios (traje blanco, “vestido de conejo” o “bunny suit”), que consiste de gorro, máscara facial, traje entero (overol), botas y gua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Vestimenta para Salón Li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Salones limpios modernos están diseñados para 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Contención total de aerosoles y partículas generados por el cuer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Cero liberación de partículas del sistema de la ro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Cero acumulación de carga eléctrica por descarga electrostática (ES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Ninguna liberación de residuos químicos o bioló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9"/>
          <p:cNvGrpSpPr/>
          <p:nvPr/>
        </p:nvGrpSpPr>
        <p:grpSpPr>
          <a:xfrm>
            <a:off x="914400" y="228600"/>
            <a:ext cx="7162920" cy="6403680"/>
            <a:chOff x="914400" y="228600"/>
            <a:chExt cx="7162920" cy="6403680"/>
          </a:xfrm>
        </p:grpSpPr>
        <p:pic>
          <p:nvPicPr>
            <p:cNvPr id="405" name="Picture 4" descr=""/>
            <p:cNvPicPr/>
            <p:nvPr/>
          </p:nvPicPr>
          <p:blipFill>
            <a:blip r:embed="rId1"/>
            <a:srcRect l="3027" t="0" r="6054" b="1678"/>
            <a:stretch/>
          </p:blipFill>
          <p:spPr>
            <a:xfrm>
              <a:off x="3352680" y="228600"/>
              <a:ext cx="2286000" cy="61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Box 2"/>
            <p:cNvSpPr/>
            <p:nvPr/>
          </p:nvSpPr>
          <p:spPr>
            <a:xfrm>
              <a:off x="6094800" y="1178280"/>
              <a:ext cx="164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bierta de la cabez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3"/>
            <p:cNvSpPr/>
            <p:nvPr/>
          </p:nvSpPr>
          <p:spPr>
            <a:xfrm>
              <a:off x="5867640" y="30456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rra (por debajo de la cubierta de la cabeza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4"/>
            <p:cNvSpPr/>
            <p:nvPr/>
          </p:nvSpPr>
          <p:spPr>
            <a:xfrm>
              <a:off x="6101640" y="57916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ta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5"/>
            <p:cNvSpPr/>
            <p:nvPr/>
          </p:nvSpPr>
          <p:spPr>
            <a:xfrm>
              <a:off x="1263600" y="259560"/>
              <a:ext cx="23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fas de Protecció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6"/>
            <p:cNvSpPr/>
            <p:nvPr/>
          </p:nvSpPr>
          <p:spPr>
            <a:xfrm>
              <a:off x="1752480" y="1066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áscar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"/>
            <p:cNvSpPr/>
            <p:nvPr/>
          </p:nvSpPr>
          <p:spPr>
            <a:xfrm>
              <a:off x="1911600" y="251460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R" sz="1800" spc="-1" strike="noStrike">
                  <a:solidFill>
                    <a:srgbClr val="000000"/>
                  </a:solidFill>
                  <a:latin typeface="Arial"/>
                </a:rPr>
                <a:t>Unifor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2" name="Straight Arrow Connector 10"/>
            <p:cNvCxnSpPr>
              <a:stCxn id="407" idx="1"/>
            </p:cNvCxnSpPr>
            <p:nvPr/>
          </p:nvCxnSpPr>
          <p:spPr>
            <a:xfrm flipH="1" flipV="1">
              <a:off x="4613040" y="557640"/>
              <a:ext cx="12546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3" name="Straight Arrow Connector 12"/>
            <p:cNvCxnSpPr>
              <a:stCxn id="406" idx="1"/>
            </p:cNvCxnSpPr>
            <p:nvPr/>
          </p:nvCxnSpPr>
          <p:spPr>
            <a:xfrm flipH="1" flipV="1">
              <a:off x="4875840" y="740160"/>
              <a:ext cx="1218600" cy="76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4" name="Straight Arrow Connector 14"/>
            <p:cNvCxnSpPr>
              <a:stCxn id="409" idx="3"/>
            </p:cNvCxnSpPr>
            <p:nvPr/>
          </p:nvCxnSpPr>
          <p:spPr>
            <a:xfrm>
              <a:off x="3666960" y="443880"/>
              <a:ext cx="632520" cy="12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Straight Arrow Connector 16"/>
            <p:cNvCxnSpPr>
              <a:stCxn id="410" idx="3"/>
            </p:cNvCxnSpPr>
            <p:nvPr/>
          </p:nvCxnSpPr>
          <p:spPr>
            <a:xfrm flipV="1">
              <a:off x="2971800" y="990000"/>
              <a:ext cx="1372320" cy="26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TextBox 17"/>
            <p:cNvSpPr/>
            <p:nvPr/>
          </p:nvSpPr>
          <p:spPr>
            <a:xfrm>
              <a:off x="914400" y="5715360"/>
              <a:ext cx="251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bierta de los zapatos (por debajo de las botas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7" name="Straight Arrow Connector 19"/>
            <p:cNvCxnSpPr/>
            <p:nvPr/>
          </p:nvCxnSpPr>
          <p:spPr>
            <a:xfrm>
              <a:off x="2361600" y="5867640"/>
              <a:ext cx="16009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8" name="Straight Arrow Connector 21"/>
            <p:cNvCxnSpPr>
              <a:stCxn id="411" idx="3"/>
            </p:cNvCxnSpPr>
            <p:nvPr/>
          </p:nvCxnSpPr>
          <p:spPr>
            <a:xfrm flipV="1">
              <a:off x="3102840" y="2666520"/>
              <a:ext cx="860400" cy="3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9" name="TextBox 22"/>
            <p:cNvSpPr/>
            <p:nvPr/>
          </p:nvSpPr>
          <p:spPr>
            <a:xfrm>
              <a:off x="5873760" y="34293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uant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0" name="Straight Arrow Connector 24"/>
            <p:cNvCxnSpPr>
              <a:stCxn id="419" idx="1"/>
            </p:cNvCxnSpPr>
            <p:nvPr/>
          </p:nvCxnSpPr>
          <p:spPr>
            <a:xfrm flipH="1" flipV="1">
              <a:off x="5333400" y="3504600"/>
              <a:ext cx="533880" cy="10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1" name="TextBox 26"/>
            <p:cNvSpPr/>
            <p:nvPr/>
          </p:nvSpPr>
          <p:spPr>
            <a:xfrm>
              <a:off x="1752480" y="3353040"/>
              <a:ext cx="1676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breta y papeles para uso específico en salon limpi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Straight Arrow Connector 28"/>
            <p:cNvCxnSpPr/>
            <p:nvPr/>
          </p:nvCxnSpPr>
          <p:spPr>
            <a:xfrm flipV="1">
              <a:off x="2590200" y="3352680"/>
              <a:ext cx="14482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23" name="Straight Arrow Connector 22"/>
          <p:cNvCxnSpPr>
            <a:stCxn id="408" idx="1"/>
          </p:cNvCxnSpPr>
          <p:nvPr/>
        </p:nvCxnSpPr>
        <p:spPr>
          <a:xfrm flipH="1">
            <a:off x="5181120" y="5974920"/>
            <a:ext cx="91512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Rectangle 23"/>
          <p:cNvSpPr/>
          <p:nvPr/>
        </p:nvSpPr>
        <p:spPr>
          <a:xfrm>
            <a:off x="6934320" y="63039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 para Vesti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5"/>
          <p:cNvGraphicFramePr/>
          <p:nvPr/>
        </p:nvGraphicFramePr>
        <p:xfrm>
          <a:off x="1295280" y="914400"/>
          <a:ext cx="6554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6554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Contaminació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ción y su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4e9c"/>
                </a:solidFill>
                <a:latin typeface="Arial"/>
              </a:rPr>
              <a:t>Preparación de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ua Proces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gua utilizada en el proceso de fabricación debe pasar por un proceso de filtración riguroso, monitoreado constantemente para mantener la pur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gua es, por lo general, el producto químico más usado en nanofabricación, utilizado principalmente en soluciones de limpieza químicas, dilución de otros productos químicos y como un enjua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ua Desioniz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ua desionizada es un agua altamente purificada comúnmente utilizada en nanofabricación y sínt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1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Una serie de resinas de intercambio iónico especialmente manufacturados producen agua DI eliminando los iones móviles encontrados en el agua po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gua se cambia de un medio conductor a un medio resistente con una resistividad de 18 megaohm-cm a 25 °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ua desionizada es un solvente universal – muchas sustancias se disolverán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ua Desionizada (Continuació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ureza del agua DI es mantenida asegurándose que su resistividad es relativamente constante en 18 megaohm-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gua desionizada se refiere a menudo como agua de 18 megao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importante recordar que el agua DI es un producto de un proceso químico y require precaución cuando utiliz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consume el agua desionizada, sales serán removidos del cuerpo humano, lo que puede ser potencialmente mor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ua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ua desionizada puede contener los siguientes contamin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es disue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ículas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a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ígeno disue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de estos contaminantes pueden eliminarse por la estricta vigilancia de pasos de filtración, mientras que otros, como el oxígeno, son una fuente constante de contam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Quí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Ácidos, bases, sales, materia orgánica y disolventes utilizados en reacciones y sustratos deben ser de la más alta pur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ntes químicos pueden inclu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ductos químicos en trazas no dese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Qué es Contaminació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es un término general usado para describir material no deseado que afecta negativamente la fabricación o síntesis de un nanoprodu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nanoproducto tiene al menos una dimensión en la escala nanomét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scala definirá el efecto del contaminante a este ni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ción afecta tres área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imiento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Quí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diferencia de agua, que se produce generalmente en el sitio, otros productos químicos de proceso son adquiridos y utilizados como lle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productos químicos están clasificados por g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ados de electrónica y semiconductores son los químicos más limpios y deben ser la pureza utilizada en nanofabricación cuando sea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Quí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niveles de pureza química varían según el fabricante, pero todos los niveles de pureza química se indican mediante un grado de pur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ejemplo, un grado de pureza de 99.9% en una botella de ácido sulfúrico significa que la botella contiene el 99,9% de ácido sulfúrico y el 0,1% de otras susta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es de 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procesos químicos, gases deben cumplir con los requerimientos de nivel de pureza estric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lidad de gas se mide en cuatro categorí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de pu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de vapor de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Iones Metá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es de 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ureza del gas se establece por un número, con valores típicos que van desde 99,99 a 99.999999%, dependiendo del gas y su utilización en el pro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ureza se expresa como el número de nueves a la derecha del punto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ejemplo; un gas que es 99.999999% puro se denomina "seis nueves puro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del Sustr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limpieza del sustrato es esencial en todas las etapas del proceso de fabr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sta 20% de los pasos de proceso se refieren a alguna forma de limpi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bre las superficies de los sustrato se observan cuatro tipos generales de contamin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s no deseadas de óx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os 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os in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de la Superficie del Sustr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Limpieza del sustrato es una serie de pasos de pro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Un proceso de limpieza sustrato de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Remover todos los contaminantes de la superfi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No grabar o dañar la superficie del sus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er seguro y económ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er ecológicamente compat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epilladoras de Superfi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quisitos estrictas de limpieza de sustrato condujeron al desarrollo de cepilladoras mecánicas de superfi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es equipos utilizan una base rotativa sobre la cual se coloca el sustrato, un cepillo giratorio y un chorro de agua DI dirigido hacia la superfi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mbinación de las rotaciones del cepillo y el substrato crea una acción de limpieza de alta energía en la superfi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6600" y="17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pilladora de Superfi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30"/>
          <p:cNvSpPr/>
          <p:nvPr/>
        </p:nvSpPr>
        <p:spPr>
          <a:xfrm>
            <a:off x="708660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ray de agua D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542160" y="305280"/>
            <a:ext cx="7858440" cy="5854680"/>
            <a:chOff x="542160" y="305280"/>
            <a:chExt cx="7858440" cy="5854680"/>
          </a:xfrm>
        </p:grpSpPr>
        <p:sp>
          <p:nvSpPr>
            <p:cNvPr id="457" name="32-Point Star 5"/>
            <p:cNvSpPr/>
            <p:nvPr/>
          </p:nvSpPr>
          <p:spPr>
            <a:xfrm>
              <a:off x="1905120" y="1981080"/>
              <a:ext cx="1600200" cy="1524240"/>
            </a:xfrm>
            <a:custGeom>
              <a:avLst/>
              <a:gdLst>
                <a:gd name="textAreaLeft" fmla="*/ 365040 w 1600200"/>
                <a:gd name="textAreaRight" fmla="*/ 1235160 w 1600200"/>
                <a:gd name="textAreaTop" fmla="*/ 347760 h 1524240"/>
                <a:gd name="textAreaBottom" fmla="*/ 117648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lowchart: Manual Operation 6"/>
            <p:cNvSpPr/>
            <p:nvPr/>
          </p:nvSpPr>
          <p:spPr>
            <a:xfrm>
              <a:off x="3429000" y="3581640"/>
              <a:ext cx="1904760" cy="228600"/>
            </a:xfrm>
            <a:prstGeom prst="flowChartManualOperation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267080" y="3810240"/>
              <a:ext cx="228600" cy="2286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ounded Rectangle 8"/>
            <p:cNvSpPr/>
            <p:nvPr/>
          </p:nvSpPr>
          <p:spPr>
            <a:xfrm>
              <a:off x="1981080" y="3505320"/>
              <a:ext cx="4876560" cy="75960"/>
            </a:xfrm>
            <a:prstGeom prst="roundRect">
              <a:avLst>
                <a:gd name="adj" fmla="val 16667"/>
              </a:avLst>
            </a:prstGeom>
            <a:solidFill>
              <a:srgbClr val="2222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Curved Down Arrow 14"/>
            <p:cNvSpPr/>
            <p:nvPr/>
          </p:nvSpPr>
          <p:spPr>
            <a:xfrm rot="5400000">
              <a:off x="4533480" y="4228920"/>
              <a:ext cx="1143000" cy="1218960"/>
            </a:xfrm>
            <a:custGeom>
              <a:avLst/>
              <a:gdLst>
                <a:gd name="textAreaLeft" fmla="*/ 178560 w 1143000"/>
                <a:gd name="textAreaRight" fmla="*/ 821520 w 1143000"/>
                <a:gd name="textAreaTop" fmla="*/ 163080 h 1218960"/>
                <a:gd name="textAreaBottom" fmla="*/ 10558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750" hR="21600" stAng="10800000" swAng="5400000"/>
                  <a:lnTo>
                    <a:pt x="12150" y="0"/>
                  </a:lnTo>
                  <a:arcTo wR="6750" hR="21600" stAng="-5400000" swAng="3141187"/>
                  <a:lnTo>
                    <a:pt x="21412" y="16538"/>
                  </a:lnTo>
                  <a:lnTo>
                    <a:pt x="16200" y="21600"/>
                  </a:lnTo>
                  <a:lnTo>
                    <a:pt x="10612" y="16538"/>
                  </a:lnTo>
                  <a:lnTo>
                    <a:pt x="13312" y="16538"/>
                  </a:lnTo>
                  <a:arcTo wR="6750" hR="21600" stAng="-2258813" swAng="-2675201"/>
                  <a:lnTo>
                    <a:pt x="9450" y="1803"/>
                  </a:lnTo>
                  <a:arcTo wR="6750" hR="21600" stAng="-5865986" swAng="-4934014"/>
                  <a:close/>
                </a:path>
                <a:path fill="darkenLess" w="21600" h="21600">
                  <a:moveTo>
                    <a:pt x="0" y="21600"/>
                  </a:moveTo>
                  <a:arcTo wR="6750" hR="21600" stAng="10800000" swAng="5400000"/>
                  <a:lnTo>
                    <a:pt x="6750" y="0"/>
                  </a:lnTo>
                  <a:arcTo wR="6750" hR="21600" stAng="-5400000" swAng="465986"/>
                  <a:lnTo>
                    <a:pt x="9450" y="1803"/>
                  </a:lnTo>
                  <a:arcTo wR="6750" hR="21600" stAng="-5865986" swAng="-4934014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Pentagon 15"/>
            <p:cNvSpPr/>
            <p:nvPr/>
          </p:nvSpPr>
          <p:spPr>
            <a:xfrm rot="8275800">
              <a:off x="5153040" y="1455840"/>
              <a:ext cx="3581280" cy="380880"/>
            </a:xfrm>
            <a:custGeom>
              <a:avLst/>
              <a:gdLst>
                <a:gd name="textAreaLeft" fmla="*/ 0 w 3581280"/>
                <a:gd name="textAreaRight" fmla="*/ 3581640 w 3581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51" y="0"/>
                  </a:lnTo>
                  <a:lnTo>
                    <a:pt x="21600" y="10800"/>
                  </a:lnTo>
                  <a:lnTo>
                    <a:pt x="2045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ardrop 16"/>
            <p:cNvSpPr/>
            <p:nvPr/>
          </p:nvSpPr>
          <p:spPr>
            <a:xfrm>
              <a:off x="5459400" y="284796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382">
                  <a:moveTo>
                    <a:pt x="0" y="76191"/>
                  </a:moveTo>
                  <a:cubicBezTo>
                    <a:pt x="0" y="34112"/>
                    <a:pt x="34116" y="0"/>
                    <a:pt x="76200" y="0"/>
                  </a:cubicBezTo>
                  <a:lnTo>
                    <a:pt x="152400" y="0"/>
                  </a:lnTo>
                  <a:lnTo>
                    <a:pt x="152400" y="76191"/>
                  </a:lnTo>
                  <a:cubicBezTo>
                    <a:pt x="152400" y="118270"/>
                    <a:pt x="118284" y="152382"/>
                    <a:pt x="76200" y="152382"/>
                  </a:cubicBezTo>
                  <a:cubicBezTo>
                    <a:pt x="34116" y="152382"/>
                    <a:pt x="0" y="118270"/>
                    <a:pt x="0" y="761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ardrop 17"/>
            <p:cNvSpPr/>
            <p:nvPr/>
          </p:nvSpPr>
          <p:spPr>
            <a:xfrm>
              <a:off x="5410080" y="312408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382">
                  <a:moveTo>
                    <a:pt x="0" y="76191"/>
                  </a:moveTo>
                  <a:cubicBezTo>
                    <a:pt x="0" y="34112"/>
                    <a:pt x="34116" y="0"/>
                    <a:pt x="76200" y="0"/>
                  </a:cubicBezTo>
                  <a:lnTo>
                    <a:pt x="152400" y="0"/>
                  </a:lnTo>
                  <a:lnTo>
                    <a:pt x="152400" y="76191"/>
                  </a:lnTo>
                  <a:cubicBezTo>
                    <a:pt x="152400" y="118270"/>
                    <a:pt x="118284" y="152382"/>
                    <a:pt x="76200" y="152382"/>
                  </a:cubicBezTo>
                  <a:cubicBezTo>
                    <a:pt x="34116" y="152382"/>
                    <a:pt x="0" y="118270"/>
                    <a:pt x="0" y="761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ardrop 18"/>
            <p:cNvSpPr/>
            <p:nvPr/>
          </p:nvSpPr>
          <p:spPr>
            <a:xfrm>
              <a:off x="5181480" y="304812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382">
                  <a:moveTo>
                    <a:pt x="0" y="76191"/>
                  </a:moveTo>
                  <a:cubicBezTo>
                    <a:pt x="0" y="34112"/>
                    <a:pt x="34116" y="0"/>
                    <a:pt x="76200" y="0"/>
                  </a:cubicBezTo>
                  <a:lnTo>
                    <a:pt x="152400" y="0"/>
                  </a:lnTo>
                  <a:lnTo>
                    <a:pt x="152400" y="76191"/>
                  </a:lnTo>
                  <a:cubicBezTo>
                    <a:pt x="152400" y="118270"/>
                    <a:pt x="118284" y="152382"/>
                    <a:pt x="76200" y="152382"/>
                  </a:cubicBezTo>
                  <a:cubicBezTo>
                    <a:pt x="34116" y="152382"/>
                    <a:pt x="0" y="118270"/>
                    <a:pt x="0" y="761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ardrop 19"/>
            <p:cNvSpPr/>
            <p:nvPr/>
          </p:nvSpPr>
          <p:spPr>
            <a:xfrm>
              <a:off x="4876920" y="320040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382">
                  <a:moveTo>
                    <a:pt x="0" y="76191"/>
                  </a:moveTo>
                  <a:cubicBezTo>
                    <a:pt x="0" y="34112"/>
                    <a:pt x="34116" y="0"/>
                    <a:pt x="76200" y="0"/>
                  </a:cubicBezTo>
                  <a:lnTo>
                    <a:pt x="152400" y="0"/>
                  </a:lnTo>
                  <a:lnTo>
                    <a:pt x="152400" y="76191"/>
                  </a:lnTo>
                  <a:cubicBezTo>
                    <a:pt x="152400" y="118270"/>
                    <a:pt x="118284" y="152382"/>
                    <a:pt x="76200" y="152382"/>
                  </a:cubicBezTo>
                  <a:cubicBezTo>
                    <a:pt x="34116" y="152382"/>
                    <a:pt x="0" y="118270"/>
                    <a:pt x="0" y="761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ardrop 20"/>
            <p:cNvSpPr/>
            <p:nvPr/>
          </p:nvSpPr>
          <p:spPr>
            <a:xfrm>
              <a:off x="5257800" y="327672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382">
                  <a:moveTo>
                    <a:pt x="0" y="76191"/>
                  </a:moveTo>
                  <a:cubicBezTo>
                    <a:pt x="0" y="34112"/>
                    <a:pt x="34116" y="0"/>
                    <a:pt x="76200" y="0"/>
                  </a:cubicBezTo>
                  <a:lnTo>
                    <a:pt x="152400" y="0"/>
                  </a:lnTo>
                  <a:lnTo>
                    <a:pt x="152400" y="76191"/>
                  </a:lnTo>
                  <a:cubicBezTo>
                    <a:pt x="152400" y="118270"/>
                    <a:pt x="118284" y="152382"/>
                    <a:pt x="76200" y="152382"/>
                  </a:cubicBezTo>
                  <a:cubicBezTo>
                    <a:pt x="34116" y="152382"/>
                    <a:pt x="0" y="118270"/>
                    <a:pt x="0" y="761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Box 21"/>
            <p:cNvSpPr/>
            <p:nvPr/>
          </p:nvSpPr>
          <p:spPr>
            <a:xfrm>
              <a:off x="1149480" y="373428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strat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Straight Arrow Connector 23"/>
            <p:cNvCxnSpPr>
              <a:stCxn id="468" idx="0"/>
              <a:endCxn id="460" idx="1"/>
            </p:cNvCxnSpPr>
            <p:nvPr/>
          </p:nvCxnSpPr>
          <p:spPr>
            <a:xfrm flipV="1">
              <a:off x="1703160" y="3542760"/>
              <a:ext cx="2782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TextBox 26"/>
            <p:cNvSpPr/>
            <p:nvPr/>
          </p:nvSpPr>
          <p:spPr>
            <a:xfrm>
              <a:off x="6178320" y="457992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tació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Straight Arrow Connector 28"/>
            <p:cNvCxnSpPr>
              <a:stCxn id="470" idx="1"/>
              <a:endCxn id="461" idx="0"/>
            </p:cNvCxnSpPr>
            <p:nvPr/>
          </p:nvCxnSpPr>
          <p:spPr>
            <a:xfrm flipH="1">
              <a:off x="5714640" y="4764960"/>
              <a:ext cx="4579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2" name="Straight Arrow Connector 32"/>
            <p:cNvCxnSpPr/>
            <p:nvPr/>
          </p:nvCxnSpPr>
          <p:spPr>
            <a:xfrm flipH="1" flipV="1">
              <a:off x="7162200" y="1447200"/>
              <a:ext cx="61020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3" name="TextBox 33"/>
            <p:cNvSpPr/>
            <p:nvPr/>
          </p:nvSpPr>
          <p:spPr>
            <a:xfrm>
              <a:off x="542160" y="1676520"/>
              <a:ext cx="193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pillo giratori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4" name="Straight Arrow Connector 35"/>
            <p:cNvCxnSpPr>
              <a:stCxn id="473" idx="2"/>
            </p:cNvCxnSpPr>
            <p:nvPr/>
          </p:nvCxnSpPr>
          <p:spPr>
            <a:xfrm>
              <a:off x="1510200" y="2045880"/>
              <a:ext cx="471240" cy="39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5" name="TextBox 36"/>
            <p:cNvSpPr/>
            <p:nvPr/>
          </p:nvSpPr>
          <p:spPr>
            <a:xfrm>
              <a:off x="1686600" y="579168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e rotativ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6" name="Straight Arrow Connector 38"/>
            <p:cNvCxnSpPr>
              <a:stCxn id="475" idx="0"/>
              <a:endCxn id="459" idx="1"/>
            </p:cNvCxnSpPr>
            <p:nvPr/>
          </p:nvCxnSpPr>
          <p:spPr>
            <a:xfrm flipV="1">
              <a:off x="2493000" y="4953240"/>
              <a:ext cx="177444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7" name="Rectangle 23"/>
          <p:cNvSpPr/>
          <p:nvPr/>
        </p:nvSpPr>
        <p:spPr>
          <a:xfrm>
            <a:off x="3086280" y="6327720"/>
            <a:ext cx="358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mpieza con Agua de Alta Pr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ste método fue desarrollado para aliviar el problema de las partículas que se pegan por electricidad estática en fotomáscaras de cristal y cro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equeño chorro de agua presurizada de 2.000 a 4.000 psi es barrido por toda la superficie, removiendo tanto partículas grandes como pequeñ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rmalmente una pequeña cantidad de surfactante (agente humectante) es agregada al agua para actuar como agente antiest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cido Sulfú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cido sulfúrico (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, calentado entre 90 ° y 125 ° C, remueve residuos inorgánicos y las partículas de la superfi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Oxidantes, generalmente el peróxido de hidrógeno (H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), persulfato de amonio     [(NH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], ácido nítrico (HNO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), o el ozono (O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), son adicionados para quitar los residuos de carbono convirtiéndolos en dióxido de carbono gaseoso (CO</a:t>
            </a:r>
            <a:r>
              <a:rPr b="0" lang="es-P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dimiento de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76520"/>
            <a:ext cx="8534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r en un ambiente contaminado puede causar varios problemas, incluyendo: un cambio en las dimensiones y una alteración en las propiedades de los 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 varios procesos de control de calidad para minimizar problemas de conta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taminación hace que menos nanoproductos completen el procesamiento y aumenta los costos de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Ácido Sulfúrico y Peróxido de Hidróg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 mezcla es una solución de limpieza agresiva y puede utilizarse para limpiar superficies en todas las etapas de procesamiento; es especialmente eficaz para remover la fotores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ntro de la industria de semiconductores, esta solución se conoce como ácido de Carro 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irañ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ido a su agresiva reactividad, la solución piraña puede ser sustituida por una solución más segura de se utilizar, denominad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nostri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Ácido Fluorhídrico (H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F se utiliza en el proceso de limpieza para quitar óxido nativo, una capa delgada, de calidad pobre de Si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se forma naturalmente sobre sustratos de sil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utiliza una solución de agua y 49% HF para eliminar óxidos nativos de un sustrato de silicio, mientras que las diluciones de 1: 100 HF/agua se utilizan para eliminar los óxidos nativos en las capas de óxido previamente cre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F también puede ser mezclado con amonio fluoruro para controlar mejor las tasas de remoción; esta mezcla se conoce como solución tamponada para remoción de óxidos (Buffered Oxide Etching - BO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ándar de Limpieza para      el Sil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En mediados de los años 60, los ingenieros de la empresa RCA desarrollaron un proceso de </a:t>
            </a:r>
            <a:r>
              <a:rPr b="1" lang="es-PR" sz="3200" spc="-1" strike="noStrike">
                <a:solidFill>
                  <a:srgbClr val="000000"/>
                </a:solidFill>
                <a:latin typeface="Arial"/>
              </a:rPr>
              <a:t>dos pasos 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ara eliminar los residuos orgánicos e inorgánicos de substratos de sil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y en día, existen muchos métodos para realizar el procedimiento de dos p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es de Limpi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limpiezas RCA son tan eficaces que hoy las fórmulas se denominan estándares de limpieza.  El método es el mas utilizado gener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Limpieza Estándar 1 (SC-1) elimina los residuos orgánicos y establece una condición para la desorción de trazas de metales de la superficie del sus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Limpieza Estándar 2 (SC-2) elimina los iones alcalinos, hidróxidos y residuo complejos de metales de la superficie del sus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ándares de Limpi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04920" y="533520"/>
          <a:ext cx="8610480" cy="3063600"/>
        </p:xfrm>
        <a:graphic>
          <a:graphicData uri="http://schemas.openxmlformats.org/drawingml/2006/table">
            <a:tbl>
              <a:tblPr/>
              <a:tblGrid>
                <a:gridCol w="2286000"/>
                <a:gridCol w="2019240"/>
                <a:gridCol w="2152440"/>
                <a:gridCol w="215280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Limpie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6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C-1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gánicos/Particula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-1 (APM)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—1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—5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1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anha (SPM)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o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C-2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tálico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-2 (HPM)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—1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—6 to 8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1 to 2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ed to 75°-85°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anha (SPM)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HF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F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Óxidos Nativo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HF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—1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—1000 pa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F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304920" y="3733920"/>
          <a:ext cx="3047760" cy="3051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731880"/>
              </a:tblGrid>
              <a:tr h="292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Clea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i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jágue (Agua DI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-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i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jágue (Agua DI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i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jágue (Agua DI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-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i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jágue (Agua DI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Secado (N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verización (Spray) versus Limpieza por im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inmersión de un substrato en una serie de baños químicos es el método de limpieza estándar de hoy; sin embargo, como las dimensiones característica continúan poniéndose más pequeñas, la industria tiene una preocupación creciente sobre el uso de ese tipo de limpieza debi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Aumento del costo de los productos quí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nques de inmersión con una tendencia a volver a depositar los contaminan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ructuras con dimensiones características más pequeñas son difíciles de limpiar eficientemente con los métodos actu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Se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eta de las industrias es abandonar la limpieza húmeda, debido a la contaminación y el impacto ambien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os problemas han estimulado interés la en la utilización de limpieza con vapor o gas, utilizando principalmente las mezclas agua/H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Asistida por Sonificador de Ult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adición de ondas de energía sónica a un tanque de limpieza de productos químicos aumenta grandemente su eficacia y permite una temperatura más baja del b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Ondas sónicas son ondas de energía generadas a partir de transductores en el exterior del tan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Hay dos tipos de limpieza s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Ultras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Megas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ño Ulltrasónico/Megas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2"/>
          <p:cNvSpPr/>
          <p:nvPr/>
        </p:nvSpPr>
        <p:spPr>
          <a:xfrm>
            <a:off x="6858000" y="5867280"/>
            <a:ext cx="228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an Aznt, Peter.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icrochip Fabrication 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 McGraw Hill.  New York. 200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1"/>
          <a:stretch/>
        </p:blipFill>
        <p:spPr>
          <a:xfrm>
            <a:off x="2209680" y="2820960"/>
            <a:ext cx="4457880" cy="2305080"/>
          </a:xfrm>
          <a:prstGeom prst="rect">
            <a:avLst/>
          </a:prstGeom>
          <a:ln w="0">
            <a:noFill/>
          </a:ln>
        </p:spPr>
      </p:pic>
      <p:sp>
        <p:nvSpPr>
          <p:cNvPr id="502" name="TextBox 5"/>
          <p:cNvSpPr/>
          <p:nvPr/>
        </p:nvSpPr>
        <p:spPr>
          <a:xfrm>
            <a:off x="2590920" y="205884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o de limpiez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3962520" y="534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est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73152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du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Straight Arrow Connector 10"/>
          <p:cNvCxnSpPr/>
          <p:nvPr/>
        </p:nvCxnSpPr>
        <p:spPr>
          <a:xfrm>
            <a:off x="4267080" y="2439720"/>
            <a:ext cx="534240" cy="99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Straight Arrow Connector 12"/>
          <p:cNvCxnSpPr/>
          <p:nvPr/>
        </p:nvCxnSpPr>
        <p:spPr>
          <a:xfrm flipH="1" flipV="1">
            <a:off x="6628680" y="3962160"/>
            <a:ext cx="686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Straight Arrow Connector 14"/>
          <p:cNvCxnSpPr/>
          <p:nvPr/>
        </p:nvCxnSpPr>
        <p:spPr>
          <a:xfrm flipV="1">
            <a:off x="4495680" y="4571280"/>
            <a:ext cx="7668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Ultras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gama de energía ultrasónica es de 20.000 a 50.000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limpieza ultrasónica mejora el enjuague por el efecto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vit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ondas pasan a través del líquido causando burbujas microscópicas que se forman y se colapsan en la superficie del sustrato rápidamente, induciendo una acción adicional de refregado microscópico que desplaza las partíc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as de contaminación pequeñas pueden escaparse de los procesos de control de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es aparentemente limpios pueden contener contaminantes no detectados que pueden afectar el desempeño de un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pieza Megas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movimiento lento o estático en la superficie del sustrato, un fenómeno de dinámica de fluidos, puede sostener partículas diminutas y evitar su exposición a la solución de limpi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energía megasónica reduce la capa, exponiendo las partículas a la solución de limpieza y aumenta la velocidad de la solución en un fenómeno conocido como transmisión acús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limpieza megasónica ocurre en 850 k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Limpieza Megasónica versus Limpieza Ultras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280" y="2590920"/>
          <a:ext cx="8763120" cy="1638360"/>
        </p:xfrm>
        <a:graphic>
          <a:graphicData uri="http://schemas.openxmlformats.org/drawingml/2006/table">
            <a:tbl>
              <a:tblPr/>
              <a:tblGrid>
                <a:gridCol w="1447920"/>
                <a:gridCol w="755640"/>
                <a:gridCol w="928800"/>
                <a:gridCol w="927000"/>
                <a:gridCol w="928800"/>
                <a:gridCol w="463320"/>
                <a:gridCol w="463680"/>
                <a:gridCol w="928800"/>
                <a:gridCol w="928440"/>
                <a:gridCol w="501840"/>
                <a:gridCol w="142920"/>
                <a:gridCol w="179280"/>
                <a:gridCol w="166680"/>
              </a:tblGrid>
              <a:tr h="546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gasónic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6d0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6d0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6d0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ltrasónic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152280" y="4267080"/>
          <a:ext cx="8991720" cy="560520"/>
        </p:xfrm>
        <a:graphic>
          <a:graphicData uri="http://schemas.openxmlformats.org/drawingml/2006/table">
            <a:tbl>
              <a:tblPr/>
              <a:tblGrid>
                <a:gridCol w="1129680"/>
                <a:gridCol w="822240"/>
                <a:gridCol w="822240"/>
                <a:gridCol w="821880"/>
                <a:gridCol w="822240"/>
                <a:gridCol w="1056600"/>
                <a:gridCol w="912600"/>
                <a:gridCol w="836640"/>
                <a:gridCol w="1444680"/>
                <a:gridCol w="162000"/>
                <a:gridCol w="162000"/>
              </a:tblGrid>
              <a:tr h="2804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,0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ámetro parcial en micrómetros (µm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590920" y="510552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Enjágue con Ag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yoría de las limpiezas húmedas son seguidas por un enjuague con agua desionizada para eliminar cualquier residuo de productos químicos de limpi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 técnicas serán discuti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águe por desbor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águe con sp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ción de enjágue por desbordamiento y por pulverización (sp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jágue por Desbord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e proceso utiliza un suministro constante de agua potable limp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caja ubicada en una estación de limpieza tiene DI agua que fluye de la parte inferior, moviéndose alrededor de los sustratos y saliendo para el dren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N2 gas burbujea desde el fondo y ayuda a la mezcla de los productos químicos sobre la superficie del sus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mpieza del sustrato se mide por la resistividad del agua desbord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Sistema de Desbordamiento Simples y de Tres Eta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52"/>
          <p:cNvGrpSpPr/>
          <p:nvPr/>
        </p:nvGrpSpPr>
        <p:grpSpPr>
          <a:xfrm>
            <a:off x="3720960" y="2590920"/>
            <a:ext cx="5268960" cy="3582720"/>
            <a:chOff x="3720960" y="2590920"/>
            <a:chExt cx="5268960" cy="3582720"/>
          </a:xfrm>
        </p:grpSpPr>
        <p:sp>
          <p:nvSpPr>
            <p:cNvPr id="523" name="U-Turn Arrow 27"/>
            <p:cNvSpPr/>
            <p:nvPr/>
          </p:nvSpPr>
          <p:spPr>
            <a:xfrm>
              <a:off x="7696080" y="3429000"/>
              <a:ext cx="1143000" cy="761760"/>
            </a:xfrm>
            <a:custGeom>
              <a:avLst/>
              <a:gdLst/>
              <a:ahLst/>
              <a:rect l="l" t="t" r="r" b="b"/>
              <a:pathLst>
                <a:path w="1142739" h="762000">
                  <a:moveTo>
                    <a:pt x="0" y="762000"/>
                  </a:moveTo>
                  <a:lnTo>
                    <a:pt x="0" y="333375"/>
                  </a:lnTo>
                  <a:cubicBezTo>
                    <a:pt x="0" y="149257"/>
                    <a:pt x="149257" y="0"/>
                    <a:pt x="333375" y="0"/>
                  </a:cubicBezTo>
                  <a:lnTo>
                    <a:pt x="714114" y="0"/>
                  </a:lnTo>
                  <a:cubicBezTo>
                    <a:pt x="898232" y="0"/>
                    <a:pt x="1047489" y="149257"/>
                    <a:pt x="1047489" y="333375"/>
                  </a:cubicBezTo>
                  <a:lnTo>
                    <a:pt x="1047489" y="381000"/>
                  </a:lnTo>
                  <a:lnTo>
                    <a:pt x="1142739" y="381000"/>
                  </a:lnTo>
                  <a:lnTo>
                    <a:pt x="952239" y="571500"/>
                  </a:lnTo>
                  <a:lnTo>
                    <a:pt x="761739" y="381000"/>
                  </a:lnTo>
                  <a:lnTo>
                    <a:pt x="856989" y="381000"/>
                  </a:lnTo>
                  <a:lnTo>
                    <a:pt x="856989" y="333375"/>
                  </a:lnTo>
                  <a:cubicBezTo>
                    <a:pt x="856989" y="254467"/>
                    <a:pt x="793022" y="190500"/>
                    <a:pt x="714114" y="190500"/>
                  </a:cubicBezTo>
                  <a:lnTo>
                    <a:pt x="333375" y="190500"/>
                  </a:lnTo>
                  <a:cubicBezTo>
                    <a:pt x="254467" y="190500"/>
                    <a:pt x="190500" y="254467"/>
                    <a:pt x="190500" y="333375"/>
                  </a:cubicBezTo>
                  <a:lnTo>
                    <a:pt x="190500" y="762000"/>
                  </a:lnTo>
                  <a:lnTo>
                    <a:pt x="0" y="7620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51"/>
            <p:cNvGrpSpPr/>
            <p:nvPr/>
          </p:nvGrpSpPr>
          <p:grpSpPr>
            <a:xfrm>
              <a:off x="4876200" y="2590920"/>
              <a:ext cx="3201840" cy="3582720"/>
              <a:chOff x="4876200" y="2590920"/>
              <a:chExt cx="3201840" cy="3582720"/>
            </a:xfrm>
          </p:grpSpPr>
          <p:sp>
            <p:nvSpPr>
              <p:cNvPr id="525" name="Rectangle 5"/>
              <p:cNvSpPr/>
              <p:nvPr/>
            </p:nvSpPr>
            <p:spPr>
              <a:xfrm>
                <a:off x="5333400" y="3429000"/>
                <a:ext cx="914040" cy="274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Straight Connector 7"/>
              <p:cNvSpPr/>
              <p:nvPr/>
            </p:nvSpPr>
            <p:spPr>
              <a:xfrm flipH="1">
                <a:off x="5333400" y="3201120"/>
                <a:ext cx="1440" cy="297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4"/>
              <p:cNvSpPr/>
              <p:nvPr/>
            </p:nvSpPr>
            <p:spPr>
              <a:xfrm>
                <a:off x="6247800" y="3808440"/>
                <a:ext cx="914040" cy="236196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2"/>
              <p:cNvSpPr/>
              <p:nvPr/>
            </p:nvSpPr>
            <p:spPr>
              <a:xfrm>
                <a:off x="7162200" y="4189320"/>
                <a:ext cx="915840" cy="1981080"/>
              </a:xfrm>
              <a:prstGeom prst="rect">
                <a:avLst/>
              </a:prstGeom>
              <a:solidFill>
                <a:srgbClr val="a6a6a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Straight Connector 13"/>
              <p:cNvSpPr/>
              <p:nvPr/>
            </p:nvSpPr>
            <p:spPr>
              <a:xfrm flipH="1">
                <a:off x="8076240" y="4039200"/>
                <a:ext cx="1440" cy="213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Straight Connector 8"/>
              <p:cNvSpPr/>
              <p:nvPr/>
            </p:nvSpPr>
            <p:spPr>
              <a:xfrm flipH="1">
                <a:off x="6247800" y="3352680"/>
                <a:ext cx="720" cy="282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Straight Connector 11"/>
              <p:cNvSpPr/>
              <p:nvPr/>
            </p:nvSpPr>
            <p:spPr>
              <a:xfrm flipH="1">
                <a:off x="7162560" y="3733920"/>
                <a:ext cx="1440" cy="243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Straight Connector 19"/>
              <p:cNvSpPr/>
              <p:nvPr/>
            </p:nvSpPr>
            <p:spPr>
              <a:xfrm>
                <a:off x="5334120" y="6172200"/>
                <a:ext cx="27435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Box 21"/>
              <p:cNvSpPr/>
              <p:nvPr/>
            </p:nvSpPr>
            <p:spPr>
              <a:xfrm>
                <a:off x="5641200" y="5562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Box 22"/>
              <p:cNvSpPr/>
              <p:nvPr/>
            </p:nvSpPr>
            <p:spPr>
              <a:xfrm>
                <a:off x="6555600" y="5562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Box 23"/>
              <p:cNvSpPr/>
              <p:nvPr/>
            </p:nvSpPr>
            <p:spPr>
              <a:xfrm>
                <a:off x="7470360" y="5562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U-Turn Arrow 25"/>
              <p:cNvSpPr/>
              <p:nvPr/>
            </p:nvSpPr>
            <p:spPr>
              <a:xfrm>
                <a:off x="5790600" y="2590920"/>
                <a:ext cx="838080" cy="838080"/>
              </a:xfrm>
              <a:custGeom>
                <a:avLst/>
                <a:gdLst/>
                <a:ahLst/>
                <a:rect l="l" t="t" r="r" b="b"/>
                <a:pathLst>
                  <a:path w="838008" h="838200">
                    <a:moveTo>
                      <a:pt x="0" y="838200"/>
                    </a:moveTo>
                    <a:lnTo>
                      <a:pt x="0" y="366629"/>
                    </a:lnTo>
                    <a:cubicBezTo>
                      <a:pt x="0" y="164145"/>
                      <a:pt x="164145" y="0"/>
                      <a:pt x="366629" y="0"/>
                    </a:cubicBezTo>
                    <a:lnTo>
                      <a:pt x="366629" y="0"/>
                    </a:lnTo>
                    <a:cubicBezTo>
                      <a:pt x="569113" y="0"/>
                      <a:pt x="733258" y="164145"/>
                      <a:pt x="733258" y="366629"/>
                    </a:cubicBezTo>
                    <a:cubicBezTo>
                      <a:pt x="733258" y="384135"/>
                      <a:pt x="733257" y="401642"/>
                      <a:pt x="733257" y="419148"/>
                    </a:cubicBezTo>
                    <a:lnTo>
                      <a:pt x="838008" y="419148"/>
                    </a:lnTo>
                    <a:lnTo>
                      <a:pt x="628506" y="628650"/>
                    </a:lnTo>
                    <a:lnTo>
                      <a:pt x="419004" y="419148"/>
                    </a:lnTo>
                    <a:lnTo>
                      <a:pt x="523755" y="419148"/>
                    </a:lnTo>
                    <a:lnTo>
                      <a:pt x="523755" y="366629"/>
                    </a:lnTo>
                    <a:cubicBezTo>
                      <a:pt x="523755" y="279850"/>
                      <a:pt x="453407" y="209502"/>
                      <a:pt x="366628" y="209502"/>
                    </a:cubicBezTo>
                    <a:lnTo>
                      <a:pt x="366629" y="209502"/>
                    </a:lnTo>
                    <a:cubicBezTo>
                      <a:pt x="279850" y="209502"/>
                      <a:pt x="209502" y="279850"/>
                      <a:pt x="209502" y="366629"/>
                    </a:cubicBezTo>
                    <a:lnTo>
                      <a:pt x="209502" y="838200"/>
                    </a:lnTo>
                    <a:lnTo>
                      <a:pt x="0" y="838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U-Turn Arrow 26"/>
              <p:cNvSpPr/>
              <p:nvPr/>
            </p:nvSpPr>
            <p:spPr>
              <a:xfrm>
                <a:off x="6705000" y="2971800"/>
                <a:ext cx="839520" cy="838080"/>
              </a:xfrm>
              <a:custGeom>
                <a:avLst/>
                <a:gdLst/>
                <a:ahLst/>
                <a:rect l="l" t="t" r="r" b="b"/>
                <a:pathLst>
                  <a:path w="839596" h="838200">
                    <a:moveTo>
                      <a:pt x="0" y="838200"/>
                    </a:moveTo>
                    <a:lnTo>
                      <a:pt x="0" y="366713"/>
                    </a:lnTo>
                    <a:cubicBezTo>
                      <a:pt x="0" y="164183"/>
                      <a:pt x="164183" y="0"/>
                      <a:pt x="366713" y="0"/>
                    </a:cubicBezTo>
                    <a:lnTo>
                      <a:pt x="368109" y="0"/>
                    </a:lnTo>
                    <a:cubicBezTo>
                      <a:pt x="570639" y="0"/>
                      <a:pt x="734822" y="164183"/>
                      <a:pt x="734822" y="366713"/>
                    </a:cubicBezTo>
                    <a:cubicBezTo>
                      <a:pt x="734822" y="384175"/>
                      <a:pt x="734821" y="401638"/>
                      <a:pt x="734821" y="419100"/>
                    </a:cubicBezTo>
                    <a:lnTo>
                      <a:pt x="839596" y="419100"/>
                    </a:lnTo>
                    <a:lnTo>
                      <a:pt x="630046" y="628650"/>
                    </a:lnTo>
                    <a:lnTo>
                      <a:pt x="420496" y="419100"/>
                    </a:lnTo>
                    <a:lnTo>
                      <a:pt x="525271" y="419100"/>
                    </a:lnTo>
                    <a:lnTo>
                      <a:pt x="525271" y="366713"/>
                    </a:lnTo>
                    <a:cubicBezTo>
                      <a:pt x="525271" y="279914"/>
                      <a:pt x="454907" y="209550"/>
                      <a:pt x="368108" y="209550"/>
                    </a:cubicBezTo>
                    <a:lnTo>
                      <a:pt x="366713" y="209550"/>
                    </a:lnTo>
                    <a:cubicBezTo>
                      <a:pt x="279914" y="209550"/>
                      <a:pt x="209550" y="279914"/>
                      <a:pt x="209550" y="366713"/>
                    </a:cubicBezTo>
                    <a:lnTo>
                      <a:pt x="209550" y="838200"/>
                    </a:lnTo>
                    <a:lnTo>
                      <a:pt x="0" y="838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9"/>
              <p:cNvSpPr/>
              <p:nvPr/>
            </p:nvSpPr>
            <p:spPr>
              <a:xfrm>
                <a:off x="5104800" y="5410080"/>
                <a:ext cx="45684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Straight Connector 31"/>
              <p:cNvSpPr/>
              <p:nvPr/>
            </p:nvSpPr>
            <p:spPr>
              <a:xfrm>
                <a:off x="5083200" y="5388840"/>
                <a:ext cx="5331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Straight Connector 32"/>
              <p:cNvSpPr/>
              <p:nvPr/>
            </p:nvSpPr>
            <p:spPr>
              <a:xfrm>
                <a:off x="5104800" y="5715000"/>
                <a:ext cx="5331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Notched Right Arrow 33"/>
              <p:cNvSpPr/>
              <p:nvPr/>
            </p:nvSpPr>
            <p:spPr>
              <a:xfrm>
                <a:off x="4876200" y="5410080"/>
                <a:ext cx="990720" cy="228600"/>
              </a:xfrm>
              <a:custGeom>
                <a:avLst/>
                <a:gdLst>
                  <a:gd name="textAreaLeft" fmla="*/ 56880 w 990720"/>
                  <a:gd name="textAreaRight" fmla="*/ 933840 w 990720"/>
                  <a:gd name="textAreaTop" fmla="*/ 57240 h 228600"/>
                  <a:gd name="textAreaBottom" fmla="*/ 17172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9108" y="5400"/>
                    </a:lnTo>
                    <a:lnTo>
                      <a:pt x="19108" y="0"/>
                    </a:lnTo>
                    <a:lnTo>
                      <a:pt x="21600" y="10800"/>
                    </a:lnTo>
                    <a:lnTo>
                      <a:pt x="19108" y="21600"/>
                    </a:lnTo>
                    <a:lnTo>
                      <a:pt x="19108" y="16200"/>
                    </a:lnTo>
                    <a:lnTo>
                      <a:pt x="0" y="16200"/>
                    </a:lnTo>
                    <a:lnTo>
                      <a:pt x="1246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Box 35"/>
            <p:cNvSpPr/>
            <p:nvPr/>
          </p:nvSpPr>
          <p:spPr>
            <a:xfrm>
              <a:off x="3720960" y="5364360"/>
              <a:ext cx="123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trada de Agu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36"/>
            <p:cNvSpPr/>
            <p:nvPr/>
          </p:nvSpPr>
          <p:spPr>
            <a:xfrm>
              <a:off x="8143200" y="4114800"/>
              <a:ext cx="84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R" sz="1600" spc="-1" strike="noStrike">
                  <a:solidFill>
                    <a:srgbClr val="000000"/>
                  </a:solidFill>
                  <a:latin typeface="Arial"/>
                </a:rPr>
                <a:t>Salida para el Dren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94"/>
          <p:cNvGrpSpPr/>
          <p:nvPr/>
        </p:nvGrpSpPr>
        <p:grpSpPr>
          <a:xfrm>
            <a:off x="456840" y="1828800"/>
            <a:ext cx="2895480" cy="4107600"/>
            <a:chOff x="456840" y="1828800"/>
            <a:chExt cx="2895480" cy="4107600"/>
          </a:xfrm>
        </p:grpSpPr>
        <p:sp>
          <p:nvSpPr>
            <p:cNvPr id="545" name="Right Bracket 48"/>
            <p:cNvSpPr/>
            <p:nvPr/>
          </p:nvSpPr>
          <p:spPr>
            <a:xfrm rot="5400000">
              <a:off x="558360" y="2056680"/>
              <a:ext cx="2690640" cy="2893680"/>
            </a:xfrm>
            <a:custGeom>
              <a:avLst/>
              <a:gdLst>
                <a:gd name="textAreaLeft" fmla="*/ 0 w 2690640"/>
                <a:gd name="textAreaRight" fmla="*/ 1887120 w 2690640"/>
                <a:gd name="textAreaTop" fmla="*/ 111960 h 2893680"/>
                <a:gd name="textAreaBottom" fmla="*/ 2781720 h 28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37"/>
                    <a:pt x="21600" y="1673"/>
                  </a:cubicBezTo>
                  <a:lnTo>
                    <a:pt x="21600" y="19927"/>
                  </a:lnTo>
                  <a:cubicBezTo>
                    <a:pt x="21600" y="20764"/>
                    <a:pt x="10800" y="21600"/>
                    <a:pt x="0" y="21600"/>
                  </a:cubicBezTo>
                </a:path>
              </a:pathLst>
            </a:cu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ight Bracket 43"/>
            <p:cNvSpPr/>
            <p:nvPr/>
          </p:nvSpPr>
          <p:spPr>
            <a:xfrm rot="5400000">
              <a:off x="1405080" y="2336760"/>
              <a:ext cx="896760" cy="1796040"/>
            </a:xfrm>
            <a:custGeom>
              <a:avLst/>
              <a:gdLst>
                <a:gd name="textAreaLeft" fmla="*/ 0 w 896760"/>
                <a:gd name="textAreaRight" fmla="*/ 628920 w 896760"/>
                <a:gd name="textAreaTop" fmla="*/ 37080 h 1796040"/>
                <a:gd name="textAreaBottom" fmla="*/ 1758960 h 179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450"/>
                    <a:pt x="21600" y="899"/>
                  </a:cubicBezTo>
                  <a:lnTo>
                    <a:pt x="21600" y="20701"/>
                  </a:lnTo>
                  <a:cubicBezTo>
                    <a:pt x="21600" y="2115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Straight Connector 45"/>
            <p:cNvSpPr/>
            <p:nvPr/>
          </p:nvSpPr>
          <p:spPr>
            <a:xfrm flipH="1" flipV="1">
              <a:off x="1841760" y="1828800"/>
              <a:ext cx="11880" cy="185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lowchart: Connector 46"/>
            <p:cNvSpPr/>
            <p:nvPr/>
          </p:nvSpPr>
          <p:spPr>
            <a:xfrm>
              <a:off x="1019160" y="3030480"/>
              <a:ext cx="798480" cy="627120"/>
            </a:xfrm>
            <a:prstGeom prst="flowChartConnector">
              <a:avLst/>
            </a:prstGeom>
            <a:solidFill>
              <a:srgbClr val="161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lowchart: Connector 47"/>
            <p:cNvSpPr/>
            <p:nvPr/>
          </p:nvSpPr>
          <p:spPr>
            <a:xfrm>
              <a:off x="1901880" y="3036960"/>
              <a:ext cx="798480" cy="628560"/>
            </a:xfrm>
            <a:prstGeom prst="flowChartConnector">
              <a:avLst/>
            </a:prstGeom>
            <a:solidFill>
              <a:srgbClr val="161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lowchart: Connector 62"/>
            <p:cNvSpPr/>
            <p:nvPr/>
          </p:nvSpPr>
          <p:spPr>
            <a:xfrm>
              <a:off x="1355760" y="395280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lowchart: Connector 64"/>
            <p:cNvSpPr/>
            <p:nvPr/>
          </p:nvSpPr>
          <p:spPr>
            <a:xfrm>
              <a:off x="757080" y="2427120"/>
              <a:ext cx="9828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lowchart: Connector 65"/>
            <p:cNvSpPr/>
            <p:nvPr/>
          </p:nvSpPr>
          <p:spPr>
            <a:xfrm>
              <a:off x="1554120" y="224784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lowchart: Connector 66"/>
            <p:cNvSpPr/>
            <p:nvPr/>
          </p:nvSpPr>
          <p:spPr>
            <a:xfrm>
              <a:off x="1954080" y="413244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lowchart: Connector 67"/>
            <p:cNvSpPr/>
            <p:nvPr/>
          </p:nvSpPr>
          <p:spPr>
            <a:xfrm>
              <a:off x="2452680" y="395280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lowchart: Connector 68"/>
            <p:cNvSpPr/>
            <p:nvPr/>
          </p:nvSpPr>
          <p:spPr>
            <a:xfrm>
              <a:off x="2252520" y="350352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lowchart: Connector 69"/>
            <p:cNvSpPr/>
            <p:nvPr/>
          </p:nvSpPr>
          <p:spPr>
            <a:xfrm>
              <a:off x="2552760" y="341460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lowchart: Connector 70"/>
            <p:cNvSpPr/>
            <p:nvPr/>
          </p:nvSpPr>
          <p:spPr>
            <a:xfrm>
              <a:off x="2752560" y="3414600"/>
              <a:ext cx="9828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lowchart: Connector 71"/>
            <p:cNvSpPr/>
            <p:nvPr/>
          </p:nvSpPr>
          <p:spPr>
            <a:xfrm>
              <a:off x="1554120" y="323532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lowchart: Connector 72"/>
            <p:cNvSpPr/>
            <p:nvPr/>
          </p:nvSpPr>
          <p:spPr>
            <a:xfrm>
              <a:off x="1155600" y="323532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lowchart: Connector 73"/>
            <p:cNvSpPr/>
            <p:nvPr/>
          </p:nvSpPr>
          <p:spPr>
            <a:xfrm>
              <a:off x="757080" y="3862440"/>
              <a:ext cx="9828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lowchart: Connector 74"/>
            <p:cNvSpPr/>
            <p:nvPr/>
          </p:nvSpPr>
          <p:spPr>
            <a:xfrm>
              <a:off x="1055520" y="278604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lowchart: Connector 75"/>
            <p:cNvSpPr/>
            <p:nvPr/>
          </p:nvSpPr>
          <p:spPr>
            <a:xfrm>
              <a:off x="1455480" y="2965320"/>
              <a:ext cx="9828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lowchart: Connector 76"/>
            <p:cNvSpPr/>
            <p:nvPr/>
          </p:nvSpPr>
          <p:spPr>
            <a:xfrm>
              <a:off x="1954080" y="314496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lowchart: Connector 77"/>
            <p:cNvSpPr/>
            <p:nvPr/>
          </p:nvSpPr>
          <p:spPr>
            <a:xfrm>
              <a:off x="2352600" y="278604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lowchart: Connector 78"/>
            <p:cNvSpPr/>
            <p:nvPr/>
          </p:nvSpPr>
          <p:spPr>
            <a:xfrm>
              <a:off x="2951280" y="2697120"/>
              <a:ext cx="99720" cy="885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lowchart: Connector 80"/>
            <p:cNvSpPr/>
            <p:nvPr/>
          </p:nvSpPr>
          <p:spPr>
            <a:xfrm>
              <a:off x="2352600" y="242712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81"/>
            <p:cNvSpPr/>
            <p:nvPr/>
          </p:nvSpPr>
          <p:spPr>
            <a:xfrm>
              <a:off x="2377800" y="4695480"/>
              <a:ext cx="380160" cy="179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63"/>
            <p:cNvGrpSpPr/>
            <p:nvPr/>
          </p:nvGrpSpPr>
          <p:grpSpPr>
            <a:xfrm>
              <a:off x="2352960" y="4311360"/>
              <a:ext cx="429120" cy="1165680"/>
              <a:chOff x="2352960" y="4311360"/>
              <a:chExt cx="429120" cy="1165680"/>
            </a:xfrm>
          </p:grpSpPr>
          <p:sp>
            <p:nvSpPr>
              <p:cNvPr id="569" name="Straight Connector 59"/>
              <p:cNvSpPr/>
              <p:nvPr/>
            </p:nvSpPr>
            <p:spPr>
              <a:xfrm flipV="1">
                <a:off x="2352960" y="4573080"/>
                <a:ext cx="1800" cy="62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Straight Connector 60"/>
              <p:cNvSpPr/>
              <p:nvPr/>
            </p:nvSpPr>
            <p:spPr>
              <a:xfrm flipV="1">
                <a:off x="2780280" y="4547880"/>
                <a:ext cx="1800" cy="62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Notched Right Arrow 61"/>
              <p:cNvSpPr/>
              <p:nvPr/>
            </p:nvSpPr>
            <p:spPr>
              <a:xfrm rot="16200000">
                <a:off x="1995480" y="4744440"/>
                <a:ext cx="1165680" cy="299520"/>
              </a:xfrm>
              <a:custGeom>
                <a:avLst/>
                <a:gdLst>
                  <a:gd name="textAreaLeft" fmla="*/ 66960 w 1165680"/>
                  <a:gd name="textAreaRight" fmla="*/ 1098720 w 1165680"/>
                  <a:gd name="textAreaTop" fmla="*/ 74880 h 299520"/>
                  <a:gd name="textAreaBottom" fmla="*/ 224640 h 29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9108" y="5400"/>
                    </a:lnTo>
                    <a:lnTo>
                      <a:pt x="19108" y="0"/>
                    </a:lnTo>
                    <a:lnTo>
                      <a:pt x="21600" y="10800"/>
                    </a:lnTo>
                    <a:lnTo>
                      <a:pt x="19108" y="21600"/>
                    </a:lnTo>
                    <a:lnTo>
                      <a:pt x="19108" y="16200"/>
                    </a:lnTo>
                    <a:lnTo>
                      <a:pt x="0" y="16200"/>
                    </a:lnTo>
                    <a:lnTo>
                      <a:pt x="1246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Flowchart: Connector 82"/>
            <p:cNvSpPr/>
            <p:nvPr/>
          </p:nvSpPr>
          <p:spPr>
            <a:xfrm>
              <a:off x="2552760" y="2606400"/>
              <a:ext cx="99720" cy="9036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83"/>
            <p:cNvSpPr/>
            <p:nvPr/>
          </p:nvSpPr>
          <p:spPr>
            <a:xfrm>
              <a:off x="1180440" y="4695480"/>
              <a:ext cx="380160" cy="179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57"/>
            <p:cNvGrpSpPr/>
            <p:nvPr/>
          </p:nvGrpSpPr>
          <p:grpSpPr>
            <a:xfrm>
              <a:off x="1155600" y="4311360"/>
              <a:ext cx="429120" cy="1165680"/>
              <a:chOff x="1155600" y="4311360"/>
              <a:chExt cx="429120" cy="1165680"/>
            </a:xfrm>
          </p:grpSpPr>
          <p:sp>
            <p:nvSpPr>
              <p:cNvPr id="575" name="Straight Connector 53"/>
              <p:cNvSpPr/>
              <p:nvPr/>
            </p:nvSpPr>
            <p:spPr>
              <a:xfrm flipV="1">
                <a:off x="1155600" y="4573080"/>
                <a:ext cx="1800" cy="62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Straight Connector 54"/>
              <p:cNvSpPr/>
              <p:nvPr/>
            </p:nvSpPr>
            <p:spPr>
              <a:xfrm flipV="1">
                <a:off x="1582920" y="4547880"/>
                <a:ext cx="1800" cy="62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Notched Right Arrow 55"/>
              <p:cNvSpPr/>
              <p:nvPr/>
            </p:nvSpPr>
            <p:spPr>
              <a:xfrm rot="16200000">
                <a:off x="798120" y="4744440"/>
                <a:ext cx="1165680" cy="299520"/>
              </a:xfrm>
              <a:custGeom>
                <a:avLst/>
                <a:gdLst>
                  <a:gd name="textAreaLeft" fmla="*/ 66960 w 1165680"/>
                  <a:gd name="textAreaRight" fmla="*/ 1098720 w 1165680"/>
                  <a:gd name="textAreaTop" fmla="*/ 74880 h 299520"/>
                  <a:gd name="textAreaBottom" fmla="*/ 224640 h 29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9108" y="5400"/>
                    </a:lnTo>
                    <a:lnTo>
                      <a:pt x="19108" y="0"/>
                    </a:lnTo>
                    <a:lnTo>
                      <a:pt x="21600" y="10800"/>
                    </a:lnTo>
                    <a:lnTo>
                      <a:pt x="19108" y="21600"/>
                    </a:lnTo>
                    <a:lnTo>
                      <a:pt x="19108" y="16200"/>
                    </a:lnTo>
                    <a:lnTo>
                      <a:pt x="0" y="16200"/>
                    </a:lnTo>
                    <a:lnTo>
                      <a:pt x="1246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Straight Connector 85"/>
            <p:cNvSpPr/>
            <p:nvPr/>
          </p:nvSpPr>
          <p:spPr>
            <a:xfrm>
              <a:off x="556920" y="4042080"/>
              <a:ext cx="269388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87"/>
            <p:cNvSpPr/>
            <p:nvPr/>
          </p:nvSpPr>
          <p:spPr>
            <a:xfrm flipH="1" flipV="1">
              <a:off x="3350520" y="1889280"/>
              <a:ext cx="1800" cy="26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88"/>
            <p:cNvSpPr/>
            <p:nvPr/>
          </p:nvSpPr>
          <p:spPr>
            <a:xfrm flipH="1" flipV="1">
              <a:off x="456840" y="1889280"/>
              <a:ext cx="1800" cy="26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89"/>
            <p:cNvSpPr/>
            <p:nvPr/>
          </p:nvSpPr>
          <p:spPr>
            <a:xfrm>
              <a:off x="955800" y="5387760"/>
              <a:ext cx="798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rada de Agu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91"/>
            <p:cNvSpPr/>
            <p:nvPr/>
          </p:nvSpPr>
          <p:spPr>
            <a:xfrm>
              <a:off x="2153520" y="5477400"/>
              <a:ext cx="1183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rada de Nitrógen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63"/>
          <p:cNvSpPr/>
          <p:nvPr/>
        </p:nvSpPr>
        <p:spPr>
          <a:xfrm>
            <a:off x="282600" y="610704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jágue con Pulverización (Spra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ulverización remueve productos químicos por medio 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za física del momento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inutas gotitas constantemente golpeando la superficie del sust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lverización utiliza menos agua que enjuagadoras de desbord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aerosol de agua tiene C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tmosférico atrapado en él, lo que hace las lecturas de resistividad invál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binación de Enjágue por Desbordamiento y por Pulver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combinación entre el desbordamiento y pulverización tiene una alta eficiencia de limpieza, conserva el agua y ahorra espa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sustratos son colocados en una enjuagadora seca y rociados con agua desionizada, al mismo tiempo que la cavidad de la enjuagadora se llena de agua hasta que comienza a desbordarse; entonces una trampilla en la parte inferior de la cavidad del enjuague se abre y el agua es dre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os pasos se repiten varias veces hasta que los substratos estén lim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binación de Enjágue por Desbordamiento y por Pulver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1752120" y="1738440"/>
            <a:ext cx="5621760" cy="4736880"/>
            <a:chOff x="1752120" y="1738440"/>
            <a:chExt cx="5621760" cy="4736880"/>
          </a:xfrm>
        </p:grpSpPr>
        <p:grpSp>
          <p:nvGrpSpPr>
            <p:cNvPr id="590" name="Group 34"/>
            <p:cNvGrpSpPr/>
            <p:nvPr/>
          </p:nvGrpSpPr>
          <p:grpSpPr>
            <a:xfrm>
              <a:off x="1912680" y="1738440"/>
              <a:ext cx="5461200" cy="4736880"/>
              <a:chOff x="1912680" y="1738440"/>
              <a:chExt cx="5461200" cy="4736880"/>
            </a:xfrm>
          </p:grpSpPr>
          <p:sp>
            <p:nvSpPr>
              <p:cNvPr id="591" name="Straight Connector 32"/>
              <p:cNvSpPr/>
              <p:nvPr/>
            </p:nvSpPr>
            <p:spPr>
              <a:xfrm flipH="1">
                <a:off x="5346360" y="3274560"/>
                <a:ext cx="2880" cy="320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2" name="Elbow Connector 37"/>
              <p:cNvCxnSpPr/>
              <p:nvPr/>
            </p:nvCxnSpPr>
            <p:spPr>
              <a:xfrm flipH="1" rot="16200000">
                <a:off x="2460960" y="3971520"/>
                <a:ext cx="3201480" cy="1753560"/>
              </a:xfrm>
              <a:prstGeom prst="bentConnector3">
                <a:avLst>
                  <a:gd name="adj1" fmla="val 76147"/>
                </a:avLst>
              </a:prstGeom>
              <a:ln w="38160">
                <a:solidFill>
                  <a:srgbClr val="000000"/>
                </a:solidFill>
                <a:round/>
              </a:ln>
            </p:spPr>
          </p:cxnSp>
          <p:cxnSp>
            <p:nvCxnSpPr>
              <p:cNvPr id="593" name="Straight Arrow Connector 50"/>
              <p:cNvCxnSpPr/>
              <p:nvPr/>
            </p:nvCxnSpPr>
            <p:spPr>
              <a:xfrm flipH="1">
                <a:off x="5181480" y="6010560"/>
                <a:ext cx="991440" cy="381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594" name="Group 64"/>
              <p:cNvGrpSpPr/>
              <p:nvPr/>
            </p:nvGrpSpPr>
            <p:grpSpPr>
              <a:xfrm>
                <a:off x="1912680" y="1738440"/>
                <a:ext cx="5461200" cy="4395600"/>
                <a:chOff x="1912680" y="1738440"/>
                <a:chExt cx="5461200" cy="4395600"/>
              </a:xfrm>
            </p:grpSpPr>
            <p:grpSp>
              <p:nvGrpSpPr>
                <p:cNvPr id="595" name="Group 29"/>
                <p:cNvGrpSpPr/>
                <p:nvPr/>
              </p:nvGrpSpPr>
              <p:grpSpPr>
                <a:xfrm>
                  <a:off x="3202560" y="1738440"/>
                  <a:ext cx="1715760" cy="2353320"/>
                  <a:chOff x="3202560" y="1738440"/>
                  <a:chExt cx="1715760" cy="2353320"/>
                </a:xfrm>
              </p:grpSpPr>
              <p:sp>
                <p:nvSpPr>
                  <p:cNvPr id="596" name="Straight Connector 9"/>
                  <p:cNvSpPr/>
                  <p:nvPr/>
                </p:nvSpPr>
                <p:spPr>
                  <a:xfrm>
                    <a:off x="3825000" y="2512080"/>
                    <a:ext cx="1093320" cy="1319040"/>
                  </a:xfrm>
                  <a:prstGeom prst="line">
                    <a:avLst/>
                  </a:prstGeom>
                  <a:ln w="28440">
                    <a:solidFill>
                      <a:srgbClr val="3c8c93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Straight Connector 10"/>
                  <p:cNvSpPr/>
                  <p:nvPr/>
                </p:nvSpPr>
                <p:spPr>
                  <a:xfrm>
                    <a:off x="3825000" y="2512080"/>
                    <a:ext cx="728280" cy="1269000"/>
                  </a:xfrm>
                  <a:prstGeom prst="line">
                    <a:avLst/>
                  </a:prstGeom>
                  <a:ln w="28440">
                    <a:solidFill>
                      <a:srgbClr val="3c8c93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Straight Connector 16"/>
                  <p:cNvSpPr/>
                  <p:nvPr/>
                </p:nvSpPr>
                <p:spPr>
                  <a:xfrm>
                    <a:off x="3825000" y="2512080"/>
                    <a:ext cx="547560" cy="1515240"/>
                  </a:xfrm>
                  <a:prstGeom prst="line">
                    <a:avLst/>
                  </a:prstGeom>
                  <a:ln w="28440">
                    <a:solidFill>
                      <a:srgbClr val="3c8c93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Straight Connector 19"/>
                  <p:cNvSpPr/>
                  <p:nvPr/>
                </p:nvSpPr>
                <p:spPr>
                  <a:xfrm>
                    <a:off x="3825720" y="2512080"/>
                    <a:ext cx="304560" cy="1579680"/>
                  </a:xfrm>
                  <a:prstGeom prst="line">
                    <a:avLst/>
                  </a:prstGeom>
                  <a:ln w="28440">
                    <a:solidFill>
                      <a:srgbClr val="3c8c93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Straight Connector 24"/>
                  <p:cNvSpPr/>
                  <p:nvPr/>
                </p:nvSpPr>
                <p:spPr>
                  <a:xfrm flipH="1">
                    <a:off x="3825720" y="2512080"/>
                    <a:ext cx="1440" cy="1515240"/>
                  </a:xfrm>
                  <a:prstGeom prst="line">
                    <a:avLst/>
                  </a:prstGeom>
                  <a:ln w="28440">
                    <a:solidFill>
                      <a:srgbClr val="3c8c93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Pentagon 28"/>
                  <p:cNvSpPr/>
                  <p:nvPr/>
                </p:nvSpPr>
                <p:spPr>
                  <a:xfrm rot="3138600">
                    <a:off x="3157920" y="2013840"/>
                    <a:ext cx="844920" cy="303120"/>
                  </a:xfrm>
                  <a:custGeom>
                    <a:avLst/>
                    <a:gdLst>
                      <a:gd name="textAreaLeft" fmla="*/ 0 w 844920"/>
                      <a:gd name="textAreaRight" fmla="*/ 845280 w 844920"/>
                      <a:gd name="textAreaTop" fmla="*/ 0 h 303120"/>
                      <a:gd name="textAreaBottom" fmla="*/ 303480 h 303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7447" y="0"/>
                        </a:lnTo>
                        <a:lnTo>
                          <a:pt x="21600" y="10800"/>
                        </a:lnTo>
                        <a:lnTo>
                          <a:pt x="17447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6b6bc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Group 63"/>
                <p:cNvGrpSpPr/>
                <p:nvPr/>
              </p:nvGrpSpPr>
              <p:grpSpPr>
                <a:xfrm>
                  <a:off x="1912680" y="2124000"/>
                  <a:ext cx="5461200" cy="4010040"/>
                  <a:chOff x="1912680" y="2124000"/>
                  <a:chExt cx="5461200" cy="4010040"/>
                </a:xfrm>
              </p:grpSpPr>
              <p:sp>
                <p:nvSpPr>
                  <p:cNvPr id="603" name="Rectangle 30"/>
                  <p:cNvSpPr/>
                  <p:nvPr/>
                </p:nvSpPr>
                <p:spPr>
                  <a:xfrm>
                    <a:off x="3200400" y="3647880"/>
                    <a:ext cx="2134080" cy="1599840"/>
                  </a:xfrm>
                  <a:prstGeom prst="rect">
                    <a:avLst/>
                  </a:pr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4" name="Group 7"/>
                  <p:cNvGrpSpPr/>
                  <p:nvPr/>
                </p:nvGrpSpPr>
                <p:grpSpPr>
                  <a:xfrm>
                    <a:off x="3394800" y="3177360"/>
                    <a:ext cx="1796400" cy="1854000"/>
                    <a:chOff x="3394800" y="3177360"/>
                    <a:chExt cx="1796400" cy="1854000"/>
                  </a:xfrm>
                </p:grpSpPr>
                <p:sp>
                  <p:nvSpPr>
                    <p:cNvPr id="605" name="Right Bracket 3"/>
                    <p:cNvSpPr/>
                    <p:nvPr/>
                  </p:nvSpPr>
                  <p:spPr>
                    <a:xfrm rot="5400000">
                      <a:off x="3844800" y="3684960"/>
                      <a:ext cx="896400" cy="1796400"/>
                    </a:xfrm>
                    <a:custGeom>
                      <a:avLst/>
                      <a:gdLst>
                        <a:gd name="textAreaLeft" fmla="*/ 0 w 896400"/>
                        <a:gd name="textAreaRight" fmla="*/ 628920 w 896400"/>
                        <a:gd name="textAreaTop" fmla="*/ 37080 h 1796400"/>
                        <a:gd name="textAreaBottom" fmla="*/ 1759320 h 17964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10800" y="0"/>
                            <a:pt x="21600" y="450"/>
                            <a:pt x="21600" y="899"/>
                          </a:cubicBezTo>
                          <a:lnTo>
                            <a:pt x="21600" y="20701"/>
                          </a:lnTo>
                          <a:cubicBezTo>
                            <a:pt x="21600" y="21151"/>
                            <a:pt x="10800" y="21600"/>
                            <a:pt x="0" y="21600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Straight Connector 4"/>
                    <p:cNvSpPr/>
                    <p:nvPr/>
                  </p:nvSpPr>
                  <p:spPr>
                    <a:xfrm flipH="1" flipV="1">
                      <a:off x="4280760" y="3177360"/>
                      <a:ext cx="11880" cy="18540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lowchart: Connector 5"/>
                    <p:cNvSpPr/>
                    <p:nvPr/>
                  </p:nvSpPr>
                  <p:spPr>
                    <a:xfrm>
                      <a:off x="3457440" y="4377960"/>
                      <a:ext cx="798480" cy="582480"/>
                    </a:xfrm>
                    <a:prstGeom prst="flowChartConnector">
                      <a:avLst/>
                    </a:prstGeom>
                    <a:solidFill>
                      <a:srgbClr val="1616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Flowchart: Connector 6"/>
                    <p:cNvSpPr/>
                    <p:nvPr/>
                  </p:nvSpPr>
                  <p:spPr>
                    <a:xfrm>
                      <a:off x="4340160" y="4385880"/>
                      <a:ext cx="798480" cy="582480"/>
                    </a:xfrm>
                    <a:prstGeom prst="flowChartConnector">
                      <a:avLst/>
                    </a:prstGeom>
                    <a:solidFill>
                      <a:srgbClr val="1616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9" name="Straight Connector 34"/>
                  <p:cNvSpPr/>
                  <p:nvPr/>
                </p:nvSpPr>
                <p:spPr>
                  <a:xfrm>
                    <a:off x="3200400" y="5248080"/>
                    <a:ext cx="2134080" cy="14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Flowchart: Manual Operation 35"/>
                  <p:cNvSpPr/>
                  <p:nvPr/>
                </p:nvSpPr>
                <p:spPr>
                  <a:xfrm flipV="1" rot="16200000">
                    <a:off x="5063040" y="5095440"/>
                    <a:ext cx="304560" cy="304560"/>
                  </a:xfrm>
                  <a:prstGeom prst="flowChartManualOperation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Rectangle 39"/>
                  <p:cNvSpPr/>
                  <p:nvPr/>
                </p:nvSpPr>
                <p:spPr>
                  <a:xfrm>
                    <a:off x="3176640" y="5050440"/>
                    <a:ext cx="152280" cy="123480"/>
                  </a:xfrm>
                  <a:prstGeom prst="rect">
                    <a:avLst/>
                  </a:pr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Straight Connector 41"/>
                  <p:cNvSpPr/>
                  <p:nvPr/>
                </p:nvSpPr>
                <p:spPr>
                  <a:xfrm>
                    <a:off x="3071880" y="5033520"/>
                    <a:ext cx="22860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Straight Connector 42"/>
                  <p:cNvSpPr/>
                  <p:nvPr/>
                </p:nvSpPr>
                <p:spPr>
                  <a:xfrm>
                    <a:off x="3071880" y="5157360"/>
                    <a:ext cx="22860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614" name="Straight Arrow Connector 46"/>
                  <p:cNvCxnSpPr/>
                  <p:nvPr/>
                </p:nvCxnSpPr>
                <p:spPr>
                  <a:xfrm flipV="1">
                    <a:off x="4496400" y="5323320"/>
                    <a:ext cx="457920" cy="610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615" name="TextBox 48"/>
                  <p:cNvSpPr/>
                  <p:nvPr/>
                </p:nvSpPr>
                <p:spPr>
                  <a:xfrm>
                    <a:off x="3962520" y="5857560"/>
                    <a:ext cx="8604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Trampilla</a:t>
                    </a: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Box 51"/>
                  <p:cNvSpPr/>
                  <p:nvPr/>
                </p:nvSpPr>
                <p:spPr>
                  <a:xfrm>
                    <a:off x="5722560" y="5781240"/>
                    <a:ext cx="16513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alida para el Dreno</a:t>
                    </a: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617" name="Straight Arrow Connector 53"/>
                  <p:cNvCxnSpPr>
                    <a:endCxn id="607" idx="1"/>
                  </p:cNvCxnSpPr>
                  <p:nvPr/>
                </p:nvCxnSpPr>
                <p:spPr>
                  <a:xfrm>
                    <a:off x="2819160" y="4181040"/>
                    <a:ext cx="756720" cy="290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618" name="TextBox 54"/>
                  <p:cNvSpPr/>
                  <p:nvPr/>
                </p:nvSpPr>
                <p:spPr>
                  <a:xfrm>
                    <a:off x="1912680" y="3876480"/>
                    <a:ext cx="1181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Muestras</a:t>
                    </a: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619" name="Straight Arrow Connector 56"/>
                  <p:cNvCxnSpPr/>
                  <p:nvPr/>
                </p:nvCxnSpPr>
                <p:spPr>
                  <a:xfrm flipH="1">
                    <a:off x="3886200" y="2275200"/>
                    <a:ext cx="381600" cy="766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620" name="TextBox 58"/>
                  <p:cNvSpPr/>
                  <p:nvPr/>
                </p:nvSpPr>
                <p:spPr>
                  <a:xfrm>
                    <a:off x="4505040" y="2124000"/>
                    <a:ext cx="1552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ulverizador</a:t>
                    </a: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621" name="Straight Arrow Connector 60"/>
                  <p:cNvCxnSpPr/>
                  <p:nvPr/>
                </p:nvCxnSpPr>
                <p:spPr>
                  <a:xfrm flipV="1">
                    <a:off x="2743200" y="5095080"/>
                    <a:ext cx="381600" cy="2289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</p:grpSp>
        </p:grpSp>
        <p:sp>
          <p:nvSpPr>
            <p:cNvPr id="622" name="TextBox 62"/>
            <p:cNvSpPr/>
            <p:nvPr/>
          </p:nvSpPr>
          <p:spPr>
            <a:xfrm>
              <a:off x="1752120" y="5248440"/>
              <a:ext cx="139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lida de Agu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36"/>
          <p:cNvSpPr/>
          <p:nvPr/>
        </p:nvSpPr>
        <p:spPr>
          <a:xfrm>
            <a:off x="347760" y="647532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Secado del Sustr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cado es un proceso extremadamente importante: cualquier agua que queda en la superficie del sustrato puede interferir con cualquier proceso pos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muchas técnicas de sec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ecadora tipo centríf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por de alcohol isopropílico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ón superficial/Secado Marang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Secadora tipo Centrífuga (Spin-rinse Dryer) (S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e tipo de equip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300" spc="-1" strike="noStrike">
                <a:solidFill>
                  <a:srgbClr val="000000"/>
                </a:solidFill>
                <a:latin typeface="Arial"/>
              </a:rPr>
              <a:t>Las barquillas que cargan los sustratos son fijadas en soportes alrededor de la superficie interna de un tamb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Un tubo con agujeros para agua DI y nitrógeno caliente está conectado con el centro del tambor</a:t>
            </a:r>
            <a:r>
              <a:rPr b="0" lang="es-P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proceso comienza con un enjuague de los substratos que giran alrededor del tubo central que rocía agu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SRD cambia a rotación de alta velocidad que arroja el agua para fuera de los sustrat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nitrógeno ayuda en la eliminación de cualquier gota de agua remanen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blema más serio de contaminación es la falla d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a es la principal preocupación de industrias médicas, espaciales y de defen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fiabilidad puede ser un problema mayor en el mercado consumidor. Por ejemplo, un celular que no sea confiable puede causar que el consumidor cancele su contrato de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n haber implicaciones financieras si hay problemas de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ecado en Vapor con Alcohol isopropílico (A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parte inferior de la secadora hay una reserva climatizada de AIP con una zona de vapor por encima de la mis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substrato con aguas residuales en la superficie es suspendido en la zona de vapor y el AIP reemplaza el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binas refrigeradas alrededor de la zona de vapor condensan el vapor de agua fuera de los vapores de AIP y el substrato se queda libre de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 Vapor de A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57"/>
          <p:cNvGrpSpPr/>
          <p:nvPr/>
        </p:nvGrpSpPr>
        <p:grpSpPr>
          <a:xfrm>
            <a:off x="380880" y="1357200"/>
            <a:ext cx="9075600" cy="4953240"/>
            <a:chOff x="380880" y="1357200"/>
            <a:chExt cx="9075600" cy="4953240"/>
          </a:xfrm>
        </p:grpSpPr>
        <p:sp>
          <p:nvSpPr>
            <p:cNvPr id="632" name="Rectangle 31"/>
            <p:cNvSpPr/>
            <p:nvPr/>
          </p:nvSpPr>
          <p:spPr>
            <a:xfrm>
              <a:off x="3068640" y="1357200"/>
              <a:ext cx="3581280" cy="4953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lowchart: Connector 13"/>
            <p:cNvSpPr/>
            <p:nvPr/>
          </p:nvSpPr>
          <p:spPr>
            <a:xfrm>
              <a:off x="3676680" y="3263760"/>
              <a:ext cx="1185840" cy="877680"/>
            </a:xfrm>
            <a:prstGeom prst="flowChartConnector">
              <a:avLst/>
            </a:pr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lowchart: Connector 14"/>
            <p:cNvSpPr/>
            <p:nvPr/>
          </p:nvSpPr>
          <p:spPr>
            <a:xfrm>
              <a:off x="4986360" y="3274920"/>
              <a:ext cx="1185840" cy="876240"/>
            </a:xfrm>
            <a:prstGeom prst="flowChartConnector">
              <a:avLst/>
            </a:pr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Cloud 16"/>
            <p:cNvSpPr/>
            <p:nvPr/>
          </p:nvSpPr>
          <p:spPr>
            <a:xfrm>
              <a:off x="3068640" y="2195280"/>
              <a:ext cx="3505320" cy="1295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Chord 36"/>
            <p:cNvSpPr/>
            <p:nvPr/>
          </p:nvSpPr>
          <p:spPr>
            <a:xfrm rot="16200000">
              <a:off x="3030120" y="1852200"/>
              <a:ext cx="3657960" cy="3429000"/>
            </a:xfrm>
            <a:custGeom>
              <a:avLst/>
              <a:gdLst/>
              <a:ahLst/>
              <a:rect l="l" t="t" r="r" b="b"/>
              <a:pathLst>
                <a:path w="3657600" h="3429041">
                  <a:moveTo>
                    <a:pt x="1840013" y="3429009"/>
                  </a:moveTo>
                  <a:cubicBezTo>
                    <a:pt x="1204101" y="3432665"/>
                    <a:pt x="611817" y="3126359"/>
                    <a:pt x="275924" y="2620124"/>
                  </a:cubicBezTo>
                  <a:cubicBezTo>
                    <a:pt x="-89629" y="2069187"/>
                    <a:pt x="-92136" y="1371990"/>
                    <a:pt x="269446" y="818754"/>
                  </a:cubicBezTo>
                  <a:cubicBezTo>
                    <a:pt x="601898" y="310089"/>
                    <a:pt x="1192477" y="-1"/>
                    <a:pt x="1828799" y="-1"/>
                  </a:cubicBezTo>
                  <a:lnTo>
                    <a:pt x="1840013" y="3429009"/>
                  </a:lnTo>
                  <a:close/>
                </a:path>
              </a:pathLst>
            </a:custGeom>
            <a:gradFill rotWithShape="0">
              <a:gsLst>
                <a:gs pos="0">
                  <a:srgbClr val="6a8486"/>
                </a:gs>
                <a:gs pos="100000">
                  <a:srgbClr val="b8e3e6">
                    <a:alpha val="3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ight Bracket 11"/>
            <p:cNvSpPr/>
            <p:nvPr/>
          </p:nvSpPr>
          <p:spPr>
            <a:xfrm rot="5400000">
              <a:off x="4288320" y="2216520"/>
              <a:ext cx="1252440" cy="2666880"/>
            </a:xfrm>
            <a:custGeom>
              <a:avLst/>
              <a:gdLst>
                <a:gd name="textAreaLeft" fmla="*/ 0 w 1252440"/>
                <a:gd name="textAreaRight" fmla="*/ 878400 w 1252440"/>
                <a:gd name="textAreaTop" fmla="*/ 52200 h 2666880"/>
                <a:gd name="textAreaBottom" fmla="*/ 261468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423"/>
                    <a:pt x="21600" y="846"/>
                  </a:cubicBezTo>
                  <a:lnTo>
                    <a:pt x="21600" y="20754"/>
                  </a:lnTo>
                  <a:cubicBezTo>
                    <a:pt x="21600" y="21177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traight Connector 12"/>
            <p:cNvSpPr/>
            <p:nvPr/>
          </p:nvSpPr>
          <p:spPr>
            <a:xfrm flipH="1" flipV="1">
              <a:off x="4897440" y="1585440"/>
              <a:ext cx="1728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17"/>
            <p:cNvSpPr/>
            <p:nvPr/>
          </p:nvSpPr>
          <p:spPr>
            <a:xfrm>
              <a:off x="6800040" y="1509480"/>
              <a:ext cx="160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por de A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0" name="Straight Arrow Connector 19"/>
            <p:cNvCxnSpPr>
              <a:stCxn id="639" idx="1"/>
            </p:cNvCxnSpPr>
            <p:nvPr/>
          </p:nvCxnSpPr>
          <p:spPr>
            <a:xfrm flipH="1">
              <a:off x="6040080" y="1693800"/>
              <a:ext cx="762480" cy="65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1" name="Teardrop 20"/>
            <p:cNvSpPr/>
            <p:nvPr/>
          </p:nvSpPr>
          <p:spPr>
            <a:xfrm rot="18636600">
              <a:off x="5028480" y="4569840"/>
              <a:ext cx="126720" cy="204480"/>
            </a:xfrm>
            <a:custGeom>
              <a:avLst/>
              <a:gdLst/>
              <a:ahLst/>
              <a:rect l="l" t="t" r="r" b="b"/>
              <a:pathLst>
                <a:path w="127000" h="204789">
                  <a:moveTo>
                    <a:pt x="0" y="102395"/>
                  </a:moveTo>
                  <a:cubicBezTo>
                    <a:pt x="0" y="45844"/>
                    <a:pt x="28430" y="0"/>
                    <a:pt x="63500" y="0"/>
                  </a:cubicBezTo>
                  <a:cubicBezTo>
                    <a:pt x="99875" y="0"/>
                    <a:pt x="136249" y="-24523"/>
                    <a:pt x="172624" y="-73569"/>
                  </a:cubicBezTo>
                  <a:cubicBezTo>
                    <a:pt x="142208" y="-14914"/>
                    <a:pt x="127000" y="43740"/>
                    <a:pt x="127000" y="102395"/>
                  </a:cubicBezTo>
                  <a:cubicBezTo>
                    <a:pt x="127000" y="158946"/>
                    <a:pt x="98570" y="204790"/>
                    <a:pt x="63500" y="204790"/>
                  </a:cubicBezTo>
                  <a:cubicBezTo>
                    <a:pt x="28430" y="204790"/>
                    <a:pt x="0" y="158946"/>
                    <a:pt x="0" y="102395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ardrop 22"/>
            <p:cNvSpPr/>
            <p:nvPr/>
          </p:nvSpPr>
          <p:spPr>
            <a:xfrm rot="18636600">
              <a:off x="6095160" y="4112640"/>
              <a:ext cx="126720" cy="204480"/>
            </a:xfrm>
            <a:custGeom>
              <a:avLst/>
              <a:gdLst/>
              <a:ahLst/>
              <a:rect l="l" t="t" r="r" b="b"/>
              <a:pathLst>
                <a:path w="127000" h="204789">
                  <a:moveTo>
                    <a:pt x="0" y="102395"/>
                  </a:moveTo>
                  <a:cubicBezTo>
                    <a:pt x="0" y="45844"/>
                    <a:pt x="28430" y="0"/>
                    <a:pt x="63500" y="0"/>
                  </a:cubicBezTo>
                  <a:cubicBezTo>
                    <a:pt x="99875" y="0"/>
                    <a:pt x="136249" y="-24523"/>
                    <a:pt x="172624" y="-73569"/>
                  </a:cubicBezTo>
                  <a:cubicBezTo>
                    <a:pt x="142208" y="-14914"/>
                    <a:pt x="127000" y="43740"/>
                    <a:pt x="127000" y="102395"/>
                  </a:cubicBezTo>
                  <a:cubicBezTo>
                    <a:pt x="127000" y="158946"/>
                    <a:pt x="98570" y="204790"/>
                    <a:pt x="63500" y="204790"/>
                  </a:cubicBezTo>
                  <a:cubicBezTo>
                    <a:pt x="28430" y="204790"/>
                    <a:pt x="0" y="158946"/>
                    <a:pt x="0" y="102395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ardrop 23"/>
            <p:cNvSpPr/>
            <p:nvPr/>
          </p:nvSpPr>
          <p:spPr>
            <a:xfrm rot="18636600">
              <a:off x="4548600" y="4287240"/>
              <a:ext cx="163440" cy="161640"/>
            </a:xfrm>
            <a:custGeom>
              <a:avLst/>
              <a:gdLst/>
              <a:ahLst/>
              <a:rect l="l" t="t" r="r" b="b"/>
              <a:pathLst>
                <a:path w="163513" h="161927">
                  <a:moveTo>
                    <a:pt x="0" y="80964"/>
                  </a:moveTo>
                  <a:cubicBezTo>
                    <a:pt x="0" y="36249"/>
                    <a:pt x="36604" y="0"/>
                    <a:pt x="81757" y="0"/>
                  </a:cubicBezTo>
                  <a:cubicBezTo>
                    <a:pt x="128589" y="0"/>
                    <a:pt x="175421" y="-19390"/>
                    <a:pt x="222254" y="-58171"/>
                  </a:cubicBezTo>
                  <a:cubicBezTo>
                    <a:pt x="183093" y="-11793"/>
                    <a:pt x="163513" y="34585"/>
                    <a:pt x="163513" y="80964"/>
                  </a:cubicBezTo>
                  <a:cubicBezTo>
                    <a:pt x="163513" y="125679"/>
                    <a:pt x="126909" y="161928"/>
                    <a:pt x="81756" y="161928"/>
                  </a:cubicBezTo>
                  <a:cubicBezTo>
                    <a:pt x="36603" y="161928"/>
                    <a:pt x="-1" y="125679"/>
                    <a:pt x="-1" y="80964"/>
                  </a:cubicBezTo>
                  <a:lnTo>
                    <a:pt x="0" y="8096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ardrop 24"/>
            <p:cNvSpPr/>
            <p:nvPr/>
          </p:nvSpPr>
          <p:spPr>
            <a:xfrm rot="18636600">
              <a:off x="3809160" y="4188600"/>
              <a:ext cx="126720" cy="204480"/>
            </a:xfrm>
            <a:custGeom>
              <a:avLst/>
              <a:gdLst/>
              <a:ahLst/>
              <a:rect l="l" t="t" r="r" b="b"/>
              <a:pathLst>
                <a:path w="127000" h="204789">
                  <a:moveTo>
                    <a:pt x="0" y="102395"/>
                  </a:moveTo>
                  <a:cubicBezTo>
                    <a:pt x="0" y="45844"/>
                    <a:pt x="28430" y="0"/>
                    <a:pt x="63500" y="0"/>
                  </a:cubicBezTo>
                  <a:cubicBezTo>
                    <a:pt x="99875" y="0"/>
                    <a:pt x="136249" y="-24523"/>
                    <a:pt x="172624" y="-73569"/>
                  </a:cubicBezTo>
                  <a:cubicBezTo>
                    <a:pt x="142208" y="-14914"/>
                    <a:pt x="127000" y="43740"/>
                    <a:pt x="127000" y="102395"/>
                  </a:cubicBezTo>
                  <a:cubicBezTo>
                    <a:pt x="127000" y="158946"/>
                    <a:pt x="98570" y="204790"/>
                    <a:pt x="63500" y="204790"/>
                  </a:cubicBezTo>
                  <a:cubicBezTo>
                    <a:pt x="28430" y="204790"/>
                    <a:pt x="0" y="158946"/>
                    <a:pt x="0" y="102395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ound Same Side Corner Rectangle 28"/>
            <p:cNvSpPr/>
            <p:nvPr/>
          </p:nvSpPr>
          <p:spPr>
            <a:xfrm>
              <a:off x="3076560" y="5319720"/>
              <a:ext cx="3557520" cy="990720"/>
            </a:xfrm>
            <a:custGeom>
              <a:avLst/>
              <a:gdLst/>
              <a:ahLst/>
              <a:rect l="l" t="t" r="r" b="b"/>
              <a:pathLst>
                <a:path w="3557630" h="990600">
                  <a:moveTo>
                    <a:pt x="165103" y="0"/>
                  </a:moveTo>
                  <a:lnTo>
                    <a:pt x="3392527" y="0"/>
                  </a:lnTo>
                  <a:cubicBezTo>
                    <a:pt x="3483711" y="0"/>
                    <a:pt x="3557630" y="73919"/>
                    <a:pt x="3557630" y="165103"/>
                  </a:cubicBezTo>
                  <a:lnTo>
                    <a:pt x="3557630" y="990600"/>
                  </a:lnTo>
                  <a:lnTo>
                    <a:pt x="3557630" y="990600"/>
                  </a:lnTo>
                  <a:lnTo>
                    <a:pt x="0" y="990600"/>
                  </a:lnTo>
                  <a:lnTo>
                    <a:pt x="0" y="990600"/>
                  </a:lnTo>
                  <a:lnTo>
                    <a:pt x="0" y="165103"/>
                  </a:lnTo>
                  <a:cubicBezTo>
                    <a:pt x="0" y="73919"/>
                    <a:pt x="73919" y="0"/>
                    <a:pt x="165103" y="0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3"/>
            <p:cNvSpPr/>
            <p:nvPr/>
          </p:nvSpPr>
          <p:spPr>
            <a:xfrm>
              <a:off x="6811560" y="4938840"/>
              <a:ext cx="26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erva líquida de A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7" name="Straight Arrow Connector 35"/>
            <p:cNvCxnSpPr>
              <a:stCxn id="646" idx="2"/>
            </p:cNvCxnSpPr>
            <p:nvPr/>
          </p:nvCxnSpPr>
          <p:spPr>
            <a:xfrm flipH="1">
              <a:off x="6268320" y="5308200"/>
              <a:ext cx="1865880" cy="39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Straight Arrow Connector 38"/>
            <p:cNvCxnSpPr/>
            <p:nvPr/>
          </p:nvCxnSpPr>
          <p:spPr>
            <a:xfrm flipV="1">
              <a:off x="1848960" y="3795120"/>
              <a:ext cx="1600920" cy="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Box 39"/>
            <p:cNvSpPr/>
            <p:nvPr/>
          </p:nvSpPr>
          <p:spPr>
            <a:xfrm>
              <a:off x="380880" y="340632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ua condensad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49"/>
            <p:cNvGrpSpPr/>
            <p:nvPr/>
          </p:nvGrpSpPr>
          <p:grpSpPr>
            <a:xfrm>
              <a:off x="2611080" y="5396040"/>
              <a:ext cx="304560" cy="685800"/>
              <a:chOff x="2611080" y="5396040"/>
              <a:chExt cx="304560" cy="685800"/>
            </a:xfrm>
          </p:grpSpPr>
          <p:sp>
            <p:nvSpPr>
              <p:cNvPr id="651" name="Straight Connector 41"/>
              <p:cNvSpPr/>
              <p:nvPr/>
            </p:nvSpPr>
            <p:spPr>
              <a:xfrm>
                <a:off x="2611080" y="539604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Straight Connector 42"/>
              <p:cNvSpPr/>
              <p:nvPr/>
            </p:nvSpPr>
            <p:spPr>
              <a:xfrm flipH="1">
                <a:off x="2611080" y="551016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Straight Connector 45"/>
              <p:cNvSpPr/>
              <p:nvPr/>
            </p:nvSpPr>
            <p:spPr>
              <a:xfrm>
                <a:off x="2611080" y="562464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Straight Connector 46"/>
              <p:cNvSpPr/>
              <p:nvPr/>
            </p:nvSpPr>
            <p:spPr>
              <a:xfrm flipH="1">
                <a:off x="2611080" y="573876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Straight Connector 47"/>
              <p:cNvSpPr/>
              <p:nvPr/>
            </p:nvSpPr>
            <p:spPr>
              <a:xfrm flipH="1">
                <a:off x="2611080" y="596772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Straight Connector 48"/>
              <p:cNvSpPr/>
              <p:nvPr/>
            </p:nvSpPr>
            <p:spPr>
              <a:xfrm>
                <a:off x="2611080" y="585324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50"/>
            <p:cNvGrpSpPr/>
            <p:nvPr/>
          </p:nvGrpSpPr>
          <p:grpSpPr>
            <a:xfrm>
              <a:off x="6726240" y="5472360"/>
              <a:ext cx="304560" cy="685800"/>
              <a:chOff x="6726240" y="5472360"/>
              <a:chExt cx="304560" cy="685800"/>
            </a:xfrm>
          </p:grpSpPr>
          <p:sp>
            <p:nvSpPr>
              <p:cNvPr id="658" name="Straight Connector 51"/>
              <p:cNvSpPr/>
              <p:nvPr/>
            </p:nvSpPr>
            <p:spPr>
              <a:xfrm flipH="1">
                <a:off x="6726240" y="547236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Straight Connector 52"/>
              <p:cNvSpPr/>
              <p:nvPr/>
            </p:nvSpPr>
            <p:spPr>
              <a:xfrm>
                <a:off x="6726240" y="558648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Straight Connector 53"/>
              <p:cNvSpPr/>
              <p:nvPr/>
            </p:nvSpPr>
            <p:spPr>
              <a:xfrm flipH="1">
                <a:off x="6726240" y="570096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Straight Connector 54"/>
              <p:cNvSpPr/>
              <p:nvPr/>
            </p:nvSpPr>
            <p:spPr>
              <a:xfrm>
                <a:off x="6726240" y="581508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Straight Connector 55"/>
              <p:cNvSpPr/>
              <p:nvPr/>
            </p:nvSpPr>
            <p:spPr>
              <a:xfrm>
                <a:off x="6726240" y="604404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Straight Connector 56"/>
              <p:cNvSpPr/>
              <p:nvPr/>
            </p:nvSpPr>
            <p:spPr>
              <a:xfrm flipH="1">
                <a:off x="6726240" y="5929560"/>
                <a:ext cx="304560" cy="11412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57"/>
            <p:cNvGrpSpPr/>
            <p:nvPr/>
          </p:nvGrpSpPr>
          <p:grpSpPr>
            <a:xfrm>
              <a:off x="6878520" y="2881080"/>
              <a:ext cx="304560" cy="685800"/>
              <a:chOff x="6878520" y="2881080"/>
              <a:chExt cx="304560" cy="685800"/>
            </a:xfrm>
          </p:grpSpPr>
          <p:sp>
            <p:nvSpPr>
              <p:cNvPr id="665" name="Straight Connector 58"/>
              <p:cNvSpPr/>
              <p:nvPr/>
            </p:nvSpPr>
            <p:spPr>
              <a:xfrm flipH="1">
                <a:off x="6878520" y="288108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Straight Connector 59"/>
              <p:cNvSpPr/>
              <p:nvPr/>
            </p:nvSpPr>
            <p:spPr>
              <a:xfrm>
                <a:off x="6878520" y="299520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Straight Connector 60"/>
              <p:cNvSpPr/>
              <p:nvPr/>
            </p:nvSpPr>
            <p:spPr>
              <a:xfrm flipH="1">
                <a:off x="6878520" y="310968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Straight Connector 61"/>
              <p:cNvSpPr/>
              <p:nvPr/>
            </p:nvSpPr>
            <p:spPr>
              <a:xfrm>
                <a:off x="6878520" y="322380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Straight Connector 62"/>
              <p:cNvSpPr/>
              <p:nvPr/>
            </p:nvSpPr>
            <p:spPr>
              <a:xfrm>
                <a:off x="6878520" y="345276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Straight Connector 63"/>
              <p:cNvSpPr/>
              <p:nvPr/>
            </p:nvSpPr>
            <p:spPr>
              <a:xfrm flipH="1">
                <a:off x="6878520" y="333828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64"/>
            <p:cNvGrpSpPr/>
            <p:nvPr/>
          </p:nvGrpSpPr>
          <p:grpSpPr>
            <a:xfrm>
              <a:off x="2611080" y="2805120"/>
              <a:ext cx="304560" cy="685800"/>
              <a:chOff x="2611080" y="2805120"/>
              <a:chExt cx="304560" cy="685800"/>
            </a:xfrm>
          </p:grpSpPr>
          <p:sp>
            <p:nvSpPr>
              <p:cNvPr id="672" name="Straight Connector 65"/>
              <p:cNvSpPr/>
              <p:nvPr/>
            </p:nvSpPr>
            <p:spPr>
              <a:xfrm>
                <a:off x="2611080" y="280512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Straight Connector 66"/>
              <p:cNvSpPr/>
              <p:nvPr/>
            </p:nvSpPr>
            <p:spPr>
              <a:xfrm flipH="1">
                <a:off x="2611080" y="291924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Straight Connector 67"/>
              <p:cNvSpPr/>
              <p:nvPr/>
            </p:nvSpPr>
            <p:spPr>
              <a:xfrm>
                <a:off x="2611080" y="303372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Straight Connector 68"/>
              <p:cNvSpPr/>
              <p:nvPr/>
            </p:nvSpPr>
            <p:spPr>
              <a:xfrm flipH="1">
                <a:off x="2611080" y="314784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Straight Connector 69"/>
              <p:cNvSpPr/>
              <p:nvPr/>
            </p:nvSpPr>
            <p:spPr>
              <a:xfrm flipH="1">
                <a:off x="2611080" y="337680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Straight Connector 70"/>
              <p:cNvSpPr/>
              <p:nvPr/>
            </p:nvSpPr>
            <p:spPr>
              <a:xfrm>
                <a:off x="2611080" y="3262320"/>
                <a:ext cx="304560" cy="114120"/>
              </a:xfrm>
              <a:prstGeom prst="line">
                <a:avLst/>
              </a:prstGeom>
              <a:ln w="28440">
                <a:solidFill>
                  <a:srgbClr val="6b6b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78" name="Straight Arrow Connector 72"/>
            <p:cNvCxnSpPr/>
            <p:nvPr/>
          </p:nvCxnSpPr>
          <p:spPr>
            <a:xfrm flipH="1">
              <a:off x="1832040" y="5732640"/>
              <a:ext cx="894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Straight Arrow Connector 76"/>
            <p:cNvCxnSpPr/>
            <p:nvPr/>
          </p:nvCxnSpPr>
          <p:spPr>
            <a:xfrm>
              <a:off x="2077560" y="3033720"/>
              <a:ext cx="533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TextBox 78"/>
            <p:cNvSpPr/>
            <p:nvPr/>
          </p:nvSpPr>
          <p:spPr>
            <a:xfrm>
              <a:off x="788760" y="2808360"/>
              <a:ext cx="135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binas para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R" sz="1400" spc="-1" strike="noStrike">
                  <a:solidFill>
                    <a:srgbClr val="000000"/>
                  </a:solidFill>
                  <a:latin typeface="Arial"/>
                </a:rPr>
                <a:t>refrigera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ight Brace 81"/>
            <p:cNvSpPr/>
            <p:nvPr/>
          </p:nvSpPr>
          <p:spPr>
            <a:xfrm>
              <a:off x="7259400" y="2118960"/>
              <a:ext cx="609480" cy="20574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5840 h 2057400"/>
                <a:gd name="textAreaBottom" fmla="*/ 20415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67"/>
                    <a:pt x="10800" y="533"/>
                  </a:cubicBezTo>
                  <a:lnTo>
                    <a:pt x="10800" y="10267"/>
                  </a:lnTo>
                  <a:cubicBezTo>
                    <a:pt x="10800" y="10534"/>
                    <a:pt x="16200" y="10800"/>
                    <a:pt x="21600" y="10800"/>
                  </a:cubicBezTo>
                  <a:cubicBezTo>
                    <a:pt x="16200" y="10800"/>
                    <a:pt x="10800" y="11067"/>
                    <a:pt x="10800" y="11333"/>
                  </a:cubicBezTo>
                  <a:lnTo>
                    <a:pt x="10800" y="21067"/>
                  </a:lnTo>
                  <a:cubicBezTo>
                    <a:pt x="10800" y="2133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ardrop 82"/>
            <p:cNvSpPr/>
            <p:nvPr/>
          </p:nvSpPr>
          <p:spPr>
            <a:xfrm rot="18636600">
              <a:off x="4354560" y="4825440"/>
              <a:ext cx="171360" cy="150480"/>
            </a:xfrm>
            <a:custGeom>
              <a:avLst/>
              <a:gdLst/>
              <a:ahLst/>
              <a:rect l="l" t="t" r="r" b="b"/>
              <a:pathLst>
                <a:path w="171450" h="150815">
                  <a:moveTo>
                    <a:pt x="0" y="75408"/>
                  </a:moveTo>
                  <a:cubicBezTo>
                    <a:pt x="0" y="33761"/>
                    <a:pt x="38380" y="0"/>
                    <a:pt x="85725" y="0"/>
                  </a:cubicBezTo>
                  <a:cubicBezTo>
                    <a:pt x="134831" y="0"/>
                    <a:pt x="183937" y="-18060"/>
                    <a:pt x="233043" y="-54180"/>
                  </a:cubicBezTo>
                  <a:cubicBezTo>
                    <a:pt x="191981" y="-10984"/>
                    <a:pt x="171450" y="32212"/>
                    <a:pt x="171450" y="75408"/>
                  </a:cubicBezTo>
                  <a:cubicBezTo>
                    <a:pt x="171450" y="117055"/>
                    <a:pt x="133070" y="150816"/>
                    <a:pt x="85725" y="150816"/>
                  </a:cubicBezTo>
                  <a:cubicBezTo>
                    <a:pt x="38380" y="150816"/>
                    <a:pt x="0" y="117055"/>
                    <a:pt x="0" y="7540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Box 84"/>
            <p:cNvSpPr/>
            <p:nvPr/>
          </p:nvSpPr>
          <p:spPr>
            <a:xfrm>
              <a:off x="7792920" y="2805120"/>
              <a:ext cx="1218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Zona de Vapor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Box 55"/>
            <p:cNvSpPr/>
            <p:nvPr/>
          </p:nvSpPr>
          <p:spPr>
            <a:xfrm>
              <a:off x="1941120" y="435312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400" spc="-1" strike="noStrike">
                  <a:solidFill>
                    <a:srgbClr val="000000"/>
                  </a:solidFill>
                  <a:latin typeface="Arial"/>
                </a:rPr>
                <a:t>Muestra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5" name="Straight Arrow Connector 57"/>
            <p:cNvCxnSpPr/>
            <p:nvPr/>
          </p:nvCxnSpPr>
          <p:spPr>
            <a:xfrm flipV="1">
              <a:off x="2839320" y="3871080"/>
              <a:ext cx="114372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Rectangle 64"/>
          <p:cNvSpPr/>
          <p:nvPr/>
        </p:nvSpPr>
        <p:spPr>
          <a:xfrm>
            <a:off x="2979720" y="6400800"/>
            <a:ext cx="35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ublic Domain: Image Generated by CNEU Staff for free u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74"/>
          <p:cNvSpPr/>
          <p:nvPr/>
        </p:nvSpPr>
        <p:spPr>
          <a:xfrm>
            <a:off x="416520" y="5495760"/>
            <a:ext cx="137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binas pa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entamien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por Tensió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ficial /Marang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sustratos son sacados lentamente a través de una superficie de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tensión superficial remueve el agua la superficie del sustrato, dejándolo se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efecto se incrementa cuando AIP y nitrógeno son dirigidos a la interfaz      agua /sust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Contaminació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ción y su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ción de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4e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4e9c"/>
                </a:solidFill>
                <a:latin typeface="Arial"/>
              </a:rPr>
              <a:t>D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Tipos de D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Cambios dimens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Cambios en enlaces 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Contaminación d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escarga electros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amiento utilizando plasma es un buen ejemplo de cómo todos estos tipos de daño pueden ocur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ños Causados por Procesamiento Utilizando 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ños causados por el uso de plasma pueden ser debidos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Arial"/>
              </a:rPr>
              <a:t>Espectro de energía inherente al plasma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endiendo del producto, este puede ser susceptible a los rayos X, luz (Ultravioleta, infrarroja, etc.), cargas eléctricas, arcos eléctricos y daños del bombardeo de 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istemas de plasma también pueden ser una fuente de diversos residuos que pueden afectar al rend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ños Causados por 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86720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5"/>
          <p:cNvSpPr/>
          <p:nvPr/>
        </p:nvSpPr>
        <p:spPr>
          <a:xfrm>
            <a:off x="6012000" y="6227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J. W. King, L. L. Williunis I Cirrrmt Opinion in Solid Stule and Mirreriuls Science 7 (2003) 41342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6"/>
          <p:cNvSpPr/>
          <p:nvPr/>
        </p:nvSpPr>
        <p:spPr>
          <a:xfrm>
            <a:off x="1219320" y="5857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 SEM; A:  Después de etching B:  Después de la remoción de residu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2898360" y="359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"/>
          <p:cNvSpPr/>
          <p:nvPr/>
        </p:nvSpPr>
        <p:spPr>
          <a:xfrm>
            <a:off x="5900400" y="359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ños Causados por Descarga Electrostática (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es la transferencia incontrolada de la carga estática de un objeto a otro, que potencialmente puede dañar un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puede crear una descarga de decenas de miles de volt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nque la cantidad de electricidad transferida durante la DE es pequeña (nanocoulombs), esta sigue siendo suficiente para vaporizar estructuras metálicas, causar ruptura dieléctrica y, debido a la acumulación de carga, atraer partículas a las superf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18:11:26Z</dcterms:created>
  <dc:creator>jgm145</dc:creator>
  <dc:description/>
  <dc:language>en-US</dc:language>
  <cp:lastModifiedBy>Janet Pinhorn</cp:lastModifiedBy>
  <dcterms:modified xsi:type="dcterms:W3CDTF">2014-10-22T16:04:02Z</dcterms:modified>
  <cp:revision>373</cp:revision>
  <dc:subject/>
  <dc:title>Nanofabrication Manufacturing Technology Program</dc:title>
</cp:coreProperties>
</file>